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746748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endParaRPr b="1" lang="en-US" sz="40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784872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881880"/>
            <a:ext cx="784872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746748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endParaRPr b="1" lang="en-US" sz="40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383004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31400" y="1752120"/>
            <a:ext cx="383004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881880"/>
            <a:ext cx="383004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31400" y="3881880"/>
            <a:ext cx="383004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746748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endParaRPr b="1" lang="en-US" sz="40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252720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3400" y="1752120"/>
            <a:ext cx="252720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17320" y="1752120"/>
            <a:ext cx="252720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881880"/>
            <a:ext cx="252720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3400" y="3881880"/>
            <a:ext cx="252720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17320" y="3881880"/>
            <a:ext cx="252720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746748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endParaRPr b="1" lang="en-US" sz="40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752120"/>
            <a:ext cx="7848720" cy="40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746748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endParaRPr b="1" lang="en-US" sz="40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7848720" cy="407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746748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endParaRPr b="1" lang="en-US" sz="40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3830040" cy="407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31400" y="1752120"/>
            <a:ext cx="3830040" cy="407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746748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endParaRPr b="1" lang="en-US" sz="4000" spc="-1" strike="noStrike">
              <a:solidFill>
                <a:srgbClr val="ffffff"/>
              </a:solidFill>
              <a:latin typeface="Univer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533160"/>
            <a:ext cx="74674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746748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endParaRPr b="1" lang="en-US" sz="40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383004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31400" y="1752120"/>
            <a:ext cx="3830040" cy="407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881880"/>
            <a:ext cx="383004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746748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endParaRPr b="1" lang="en-US" sz="40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3830040" cy="407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1400" y="1752120"/>
            <a:ext cx="383004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31400" y="3881880"/>
            <a:ext cx="383004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746748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endParaRPr b="1" lang="en-US" sz="40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383004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1400" y="1752120"/>
            <a:ext cx="383004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881880"/>
            <a:ext cx="784872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09480" y="1752120"/>
            <a:ext cx="7848720" cy="407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Univer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  <a:p>
            <a:pPr lvl="1" marL="971640" indent="-343080">
              <a:spcBef>
                <a:spcPts val="700"/>
              </a:spcBef>
              <a:buClr>
                <a:srgbClr val="ffffff"/>
              </a:buClr>
              <a:buSzPct val="75000"/>
              <a:buFont typeface="Univer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Univer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  <a:p>
            <a:pPr lvl="2" marL="13716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Univers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  <a:p>
            <a:pPr lvl="3" marL="1714680" indent="-171720">
              <a:spcBef>
                <a:spcPts val="700"/>
              </a:spcBef>
              <a:buClr>
                <a:srgbClr val="ffffff"/>
              </a:buClr>
              <a:buFont typeface="Univers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Univers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  <a:p>
            <a:pPr lvl="4" marL="2000160" indent="-171360">
              <a:spcBef>
                <a:spcPts val="700"/>
              </a:spcBef>
              <a:buClr>
                <a:srgbClr val="ffffff"/>
              </a:buClr>
              <a:buFont typeface="Univers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Univers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  <a:p>
            <a:pPr lvl="5" marL="2000160" indent="-171360">
              <a:spcBef>
                <a:spcPts val="700"/>
              </a:spcBef>
              <a:buClr>
                <a:srgbClr val="ffffff"/>
              </a:buClr>
              <a:buFont typeface="Univers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Univers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  <a:p>
            <a:pPr lvl="6" marL="2000160" indent="-171360">
              <a:spcBef>
                <a:spcPts val="700"/>
              </a:spcBef>
              <a:buClr>
                <a:srgbClr val="ffffff"/>
              </a:buClr>
              <a:buFont typeface="Univers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Univers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685440" y="533160"/>
            <a:ext cx="746748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Univers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2" name=""/>
          <p:cNvSpPr/>
          <p:nvPr/>
        </p:nvSpPr>
        <p:spPr>
          <a:xfrm>
            <a:off x="990720" y="6553080"/>
            <a:ext cx="2590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Brian Hitchcock  August 6, 2003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010280" y="655308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Page </a:t>
            </a:r>
            <a:fld id="{D7F075E0-D00E-49B0-9EEA-CF78AEFC4EB0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0" lang="en-US" sz="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6172200"/>
            <a:ext cx="9144000" cy="3049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oCOU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95280" y="838080"/>
            <a:ext cx="6705720" cy="52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Univers"/>
              </a:rPr>
              <a:t>Managing Multiple Databases Without Multiple DBAs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Univers"/>
              </a:rPr>
              <a:t>Brian Hitchcock</a:t>
            </a:r>
            <a:br>
              <a:rPr sz="4800"/>
            </a:br>
            <a:r>
              <a:rPr b="0" lang="en-US" sz="4000" spc="-1" strike="noStrike">
                <a:solidFill>
                  <a:srgbClr val="ffffff"/>
                </a:solidFill>
                <a:latin typeface="Univers"/>
              </a:rPr>
              <a:t>OCP DBA 8, 8i, 9i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Univers"/>
              </a:rPr>
              <a:t>Global Sales I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Univers"/>
              </a:rPr>
              <a:t>Sun Microsystem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Univers"/>
              </a:rPr>
              <a:t>brian.hitchcock@sun.co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Univers"/>
              </a:rPr>
              <a:t>brhora@aol.co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6172200"/>
            <a:ext cx="9144000" cy="3049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oCOU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746748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Univers"/>
              </a:rPr>
              <a:t>Secure Environments</a:t>
            </a:r>
            <a:endParaRPr b="1" lang="en-US" sz="40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7848720" cy="407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Univers"/>
              </a:rPr>
              <a:t>db* scripts</a:t>
            </a: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  <a:p>
            <a:pPr lvl="1" marL="971640" indent="-343080">
              <a:spcBef>
                <a:spcPts val="601"/>
              </a:spcBef>
              <a:buClr>
                <a:srgbClr val="ffffff"/>
              </a:buClr>
              <a:buSzPct val="75000"/>
              <a:buFont typeface="Univer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Univers"/>
              </a:rPr>
              <a:t>Use OS utilities</a:t>
            </a:r>
            <a:endParaRPr b="0" lang="en-US" sz="2400" spc="-1" strike="noStrike">
              <a:solidFill>
                <a:srgbClr val="ffffff"/>
              </a:solidFill>
              <a:latin typeface="Univers"/>
            </a:endParaRPr>
          </a:p>
          <a:p>
            <a:pPr lvl="2" marL="1371600" indent="-228600">
              <a:spcBef>
                <a:spcPts val="550"/>
              </a:spcBef>
              <a:buClr>
                <a:srgbClr val="ffffff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may not be available</a:t>
            </a:r>
            <a:endParaRPr b="0" lang="en-US" sz="2200" spc="-1" strike="noStrike">
              <a:solidFill>
                <a:srgbClr val="ffffff"/>
              </a:solidFill>
              <a:latin typeface="Univers"/>
            </a:endParaRPr>
          </a:p>
          <a:p>
            <a:pPr lvl="1" marL="971640" indent="-343080">
              <a:spcBef>
                <a:spcPts val="601"/>
              </a:spcBef>
              <a:buClr>
                <a:srgbClr val="ffffff"/>
              </a:buClr>
              <a:buSzPct val="75000"/>
              <a:buFont typeface="Univer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Univers"/>
              </a:rPr>
              <a:t>‘</a:t>
            </a:r>
            <a:r>
              <a:rPr b="0" lang="en-US" sz="2400" spc="-1" strike="noStrike">
                <a:solidFill>
                  <a:srgbClr val="ffffff"/>
                </a:solidFill>
                <a:latin typeface="Univers"/>
              </a:rPr>
              <a:t>oracle’ may not be able to execute</a:t>
            </a:r>
            <a:endParaRPr b="0" lang="en-US" sz="2400" spc="-1" strike="noStrike">
              <a:solidFill>
                <a:srgbClr val="ffffff"/>
              </a:solidFill>
              <a:latin typeface="Univers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Univers"/>
              </a:rPr>
              <a:t>Modify scripts as needed</a:t>
            </a: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  <a:p>
            <a:pPr lvl="1" marL="971640" indent="-343080">
              <a:spcBef>
                <a:spcPts val="601"/>
              </a:spcBef>
              <a:buClr>
                <a:srgbClr val="ffffff"/>
              </a:buClr>
              <a:buSzPct val="75000"/>
              <a:buFont typeface="Univer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Univers"/>
              </a:rPr>
              <a:t>Use OS utilities that are available</a:t>
            </a:r>
            <a:endParaRPr b="0" lang="en-US" sz="2400" spc="-1" strike="noStrike">
              <a:solidFill>
                <a:srgbClr val="ffffff"/>
              </a:solidFill>
              <a:latin typeface="Univers"/>
            </a:endParaRPr>
          </a:p>
          <a:p>
            <a:pPr lvl="1" marL="971640" indent="-343080">
              <a:spcBef>
                <a:spcPts val="601"/>
              </a:spcBef>
              <a:buClr>
                <a:srgbClr val="ffffff"/>
              </a:buClr>
              <a:buSzPct val="75000"/>
              <a:buFont typeface="Univer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Univers"/>
              </a:rPr>
              <a:t>Execute scripts as ‘root’</a:t>
            </a:r>
            <a:endParaRPr b="0" lang="en-US" sz="2400" spc="-1" strike="noStrike">
              <a:solidFill>
                <a:srgbClr val="ffffff"/>
              </a:solidFill>
              <a:latin typeface="Univer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838080" y="685800"/>
            <a:ext cx="7467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Univers"/>
              </a:rPr>
              <a:t>cron script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1905120"/>
            <a:ext cx="7848360" cy="407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Univers"/>
              </a:rPr>
              <a:t>dbdo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7164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Univer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Univers"/>
              </a:rPr>
              <a:t>Document database - week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Univers"/>
              </a:rPr>
              <a:t>dbexpor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7164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Univer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Univers"/>
              </a:rPr>
              <a:t>Full export - week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Univers"/>
              </a:rPr>
              <a:t>dbsttspc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7164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Univer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Univers"/>
              </a:rPr>
              <a:t>Execute STATSPACK snapshot - 15 minu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Univers"/>
              </a:rPr>
              <a:t>dbsttspck_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7164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Univer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Univers"/>
              </a:rPr>
              <a:t>Purge old snapshot data - week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746748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Univers"/>
              </a:rPr>
              <a:t>What’s Not to Like?</a:t>
            </a:r>
            <a:endParaRPr b="1" lang="en-US" sz="40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7848720" cy="407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Univers"/>
              </a:rPr>
              <a:t>Not cool</a:t>
            </a: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Univers"/>
              </a:rPr>
              <a:t>Won’t impress your DBA friends</a:t>
            </a: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Univers"/>
              </a:rPr>
              <a:t>No multi-color graphs</a:t>
            </a: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Univers"/>
              </a:rPr>
              <a:t>No web services</a:t>
            </a: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Univers"/>
              </a:rPr>
              <a:t>Won’t alert you to a performance metric exceeding a preset threshold</a:t>
            </a: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76201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Univers"/>
              </a:rPr>
              <a:t>Monitoring Multiple Databases</a:t>
            </a:r>
            <a:endParaRPr b="1" lang="en-US" sz="40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7848720" cy="407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Univers"/>
              </a:rPr>
              <a:t>Review emails</a:t>
            </a: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Univers"/>
              </a:rPr>
              <a:t>Compare with spreadsheet of dbs being monitored</a:t>
            </a: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  <a:p>
            <a:pPr lvl="1" marL="971640" indent="-343080">
              <a:spcBef>
                <a:spcPts val="601"/>
              </a:spcBef>
              <a:buClr>
                <a:srgbClr val="ffffff"/>
              </a:buClr>
              <a:buSzPct val="75000"/>
              <a:buFont typeface="Univer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Univers"/>
              </a:rPr>
              <a:t>Resolve issues</a:t>
            </a:r>
            <a:endParaRPr b="0" lang="en-US" sz="2400" spc="-1" strike="noStrike">
              <a:solidFill>
                <a:srgbClr val="ffffff"/>
              </a:solidFill>
              <a:latin typeface="Univers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Univers"/>
              </a:rPr>
              <a:t>What happened this weekend?</a:t>
            </a: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  <a:p>
            <a:pPr lvl="1" marL="971640" indent="-343080">
              <a:spcBef>
                <a:spcPts val="601"/>
              </a:spcBef>
              <a:buClr>
                <a:srgbClr val="ffffff"/>
              </a:buClr>
              <a:buSzPct val="75000"/>
              <a:buFont typeface="Univer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Univers"/>
              </a:rPr>
              <a:t>Sort by date, look at Sat/Sun</a:t>
            </a:r>
            <a:endParaRPr b="0" lang="en-US" sz="2400" spc="-1" strike="noStrike">
              <a:solidFill>
                <a:srgbClr val="ffffff"/>
              </a:solidFill>
              <a:latin typeface="Univers"/>
            </a:endParaRPr>
          </a:p>
          <a:p>
            <a:pPr lvl="1" marL="971640" indent="-343080">
              <a:spcBef>
                <a:spcPts val="601"/>
              </a:spcBef>
              <a:buClr>
                <a:srgbClr val="ffffff"/>
              </a:buClr>
              <a:buSzPct val="75000"/>
              <a:buFont typeface="Univer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Univers"/>
              </a:rPr>
              <a:t>Did all the cron jobs run?</a:t>
            </a:r>
            <a:endParaRPr b="0" lang="en-US" sz="2400" spc="-1" strike="noStrike">
              <a:solidFill>
                <a:srgbClr val="ffffff"/>
              </a:solidFill>
              <a:latin typeface="Univer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746748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Univers"/>
              </a:rPr>
              <a:t>For each database</a:t>
            </a:r>
            <a:endParaRPr b="1" lang="en-US" sz="40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7848720" cy="407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Univers"/>
              </a:rPr>
              <a:t>Sort by subject</a:t>
            </a: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  <a:p>
            <a:pPr lvl="1" marL="971640" indent="-343080">
              <a:spcBef>
                <a:spcPts val="601"/>
              </a:spcBef>
              <a:buClr>
                <a:srgbClr val="ffffff"/>
              </a:buClr>
              <a:buSzPct val="75000"/>
              <a:buFont typeface="Univer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Univers"/>
              </a:rPr>
              <a:t>How often are backups happening?</a:t>
            </a:r>
            <a:endParaRPr b="0" lang="en-US" sz="2400" spc="-1" strike="noStrike">
              <a:solidFill>
                <a:srgbClr val="ffffff"/>
              </a:solidFill>
              <a:latin typeface="Univers"/>
            </a:endParaRPr>
          </a:p>
          <a:p>
            <a:pPr lvl="1" marL="971640" indent="-343080">
              <a:spcBef>
                <a:spcPts val="601"/>
              </a:spcBef>
              <a:buClr>
                <a:srgbClr val="ffffff"/>
              </a:buClr>
              <a:buSzPct val="75000"/>
              <a:buFont typeface="Univer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Univers"/>
              </a:rPr>
              <a:t>What was the value of shared_pool_size last week?</a:t>
            </a:r>
            <a:endParaRPr b="0" lang="en-US" sz="2400" spc="-1" strike="noStrike">
              <a:solidFill>
                <a:srgbClr val="ffffff"/>
              </a:solidFill>
              <a:latin typeface="Univers"/>
            </a:endParaRPr>
          </a:p>
          <a:p>
            <a:pPr lvl="1" marL="971640" indent="-343080">
              <a:spcBef>
                <a:spcPts val="601"/>
              </a:spcBef>
              <a:buClr>
                <a:srgbClr val="ffffff"/>
              </a:buClr>
              <a:buSzPct val="75000"/>
              <a:buFont typeface="Univer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Univers"/>
              </a:rPr>
              <a:t>How big are the export files?</a:t>
            </a:r>
            <a:endParaRPr b="0" lang="en-US" sz="2400" spc="-1" strike="noStrike">
              <a:solidFill>
                <a:srgbClr val="ffffff"/>
              </a:solidFill>
              <a:latin typeface="Univers"/>
            </a:endParaRPr>
          </a:p>
          <a:p>
            <a:pPr lvl="2" marL="1371600" indent="-228600">
              <a:spcBef>
                <a:spcPts val="550"/>
              </a:spcBef>
              <a:buClr>
                <a:srgbClr val="ffffff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how fast is the database growing?</a:t>
            </a:r>
            <a:endParaRPr b="0" lang="en-US" sz="2200" spc="-1" strike="noStrike">
              <a:solidFill>
                <a:srgbClr val="ffffff"/>
              </a:solidFill>
              <a:latin typeface="Univers"/>
            </a:endParaRPr>
          </a:p>
          <a:p>
            <a:pPr lvl="1" marL="971640" indent="-343080">
              <a:spcBef>
                <a:spcPts val="601"/>
              </a:spcBef>
              <a:buClr>
                <a:srgbClr val="ffffff"/>
              </a:buClr>
              <a:buSzPct val="75000"/>
              <a:buFont typeface="Univer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Univers"/>
              </a:rPr>
              <a:t>Errors in the alert log?</a:t>
            </a:r>
            <a:endParaRPr b="0" lang="en-US" sz="2400" spc="-1" strike="noStrike">
              <a:solidFill>
                <a:srgbClr val="ffffff"/>
              </a:solidFill>
              <a:latin typeface="Univer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746748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Univers"/>
              </a:rPr>
              <a:t>Spreadsheet</a:t>
            </a:r>
            <a:endParaRPr b="1" lang="en-US" sz="40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7848720" cy="407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Univers"/>
              </a:rPr>
              <a:t>Databases supported</a:t>
            </a: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  <a:p>
            <a:pPr lvl="1" marL="971640" indent="-343080">
              <a:spcBef>
                <a:spcPts val="601"/>
              </a:spcBef>
              <a:buClr>
                <a:srgbClr val="ffffff"/>
              </a:buClr>
              <a:buSzPct val="75000"/>
              <a:buFont typeface="Univer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Univers"/>
              </a:rPr>
              <a:t>Hostname</a:t>
            </a:r>
            <a:endParaRPr b="0" lang="en-US" sz="2400" spc="-1" strike="noStrike">
              <a:solidFill>
                <a:srgbClr val="ffffff"/>
              </a:solidFill>
              <a:latin typeface="Univers"/>
            </a:endParaRPr>
          </a:p>
          <a:p>
            <a:pPr lvl="1" marL="971640" indent="-343080">
              <a:spcBef>
                <a:spcPts val="601"/>
              </a:spcBef>
              <a:buClr>
                <a:srgbClr val="ffffff"/>
              </a:buClr>
              <a:buSzPct val="75000"/>
              <a:buFont typeface="Univer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Univers"/>
              </a:rPr>
              <a:t>Domain</a:t>
            </a:r>
            <a:endParaRPr b="0" lang="en-US" sz="2400" spc="-1" strike="noStrike">
              <a:solidFill>
                <a:srgbClr val="ffffff"/>
              </a:solidFill>
              <a:latin typeface="Univers"/>
            </a:endParaRPr>
          </a:p>
          <a:p>
            <a:pPr lvl="1" marL="971640" indent="-343080">
              <a:spcBef>
                <a:spcPts val="601"/>
              </a:spcBef>
              <a:buClr>
                <a:srgbClr val="ffffff"/>
              </a:buClr>
              <a:buSzPct val="75000"/>
              <a:buFont typeface="Univer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Univers"/>
              </a:rPr>
              <a:t>Database name</a:t>
            </a:r>
            <a:endParaRPr b="0" lang="en-US" sz="2400" spc="-1" strike="noStrike">
              <a:solidFill>
                <a:srgbClr val="ffffff"/>
              </a:solidFill>
              <a:latin typeface="Univers"/>
            </a:endParaRPr>
          </a:p>
          <a:p>
            <a:pPr lvl="1" marL="971640" indent="-343080">
              <a:spcBef>
                <a:spcPts val="601"/>
              </a:spcBef>
              <a:buClr>
                <a:srgbClr val="ffffff"/>
              </a:buClr>
              <a:buSzPct val="75000"/>
              <a:buFont typeface="Univer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Univers"/>
              </a:rPr>
              <a:t>OS version</a:t>
            </a:r>
            <a:endParaRPr b="0" lang="en-US" sz="2400" spc="-1" strike="noStrike">
              <a:solidFill>
                <a:srgbClr val="ffffff"/>
              </a:solidFill>
              <a:latin typeface="Univers"/>
            </a:endParaRPr>
          </a:p>
          <a:p>
            <a:pPr lvl="1" marL="971640" indent="-343080">
              <a:spcBef>
                <a:spcPts val="601"/>
              </a:spcBef>
              <a:buClr>
                <a:srgbClr val="ffffff"/>
              </a:buClr>
              <a:buSzPct val="75000"/>
              <a:buFont typeface="Univer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Univers"/>
              </a:rPr>
              <a:t>Database vendor, version</a:t>
            </a:r>
            <a:endParaRPr b="0" lang="en-US" sz="2400" spc="-1" strike="noStrike">
              <a:solidFill>
                <a:srgbClr val="ffffff"/>
              </a:solidFill>
              <a:latin typeface="Univers"/>
            </a:endParaRPr>
          </a:p>
          <a:p>
            <a:pPr lvl="1" marL="971640" indent="-343080">
              <a:spcBef>
                <a:spcPts val="601"/>
              </a:spcBef>
              <a:buClr>
                <a:srgbClr val="ffffff"/>
              </a:buClr>
              <a:buSzPct val="75000"/>
              <a:buFont typeface="Univer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Univers"/>
              </a:rPr>
              <a:t>cron scripts installed</a:t>
            </a:r>
            <a:endParaRPr b="0" lang="en-US" sz="2400" spc="-1" strike="noStrike">
              <a:solidFill>
                <a:srgbClr val="ffffff"/>
              </a:solidFill>
              <a:latin typeface="Univers"/>
            </a:endParaRPr>
          </a:p>
          <a:p>
            <a:pPr lvl="1" marL="971640" indent="-343080">
              <a:spcBef>
                <a:spcPts val="601"/>
              </a:spcBef>
              <a:buClr>
                <a:srgbClr val="ffffff"/>
              </a:buClr>
              <a:buSzPct val="75000"/>
              <a:buFont typeface="Univer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Univers"/>
              </a:rPr>
              <a:t>Open tasks</a:t>
            </a:r>
            <a:endParaRPr b="0" lang="en-US" sz="2400" spc="-1" strike="noStrike">
              <a:solidFill>
                <a:srgbClr val="ffffff"/>
              </a:solidFill>
              <a:latin typeface="Univers"/>
            </a:endParaRPr>
          </a:p>
          <a:p>
            <a:pPr lvl="1" marL="971640" indent="-343080">
              <a:spcBef>
                <a:spcPts val="601"/>
              </a:spcBef>
              <a:buClr>
                <a:srgbClr val="ffffff"/>
              </a:buClr>
              <a:buSzPct val="75000"/>
              <a:buFont typeface="Univer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Univers"/>
              </a:rPr>
              <a:t>Contacts</a:t>
            </a:r>
            <a:endParaRPr b="0" lang="en-US" sz="2400" spc="-1" strike="noStrike">
              <a:solidFill>
                <a:srgbClr val="ffffff"/>
              </a:solidFill>
              <a:latin typeface="Univer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746748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Univers"/>
              </a:rPr>
              <a:t>dbexport emails By Date</a:t>
            </a:r>
            <a:endParaRPr b="1" lang="en-US" sz="4000" spc="-1" strike="noStrike">
              <a:solidFill>
                <a:srgbClr val="ffffff"/>
              </a:solidFill>
              <a:latin typeface="Univers"/>
            </a:endParaRPr>
          </a:p>
        </p:txBody>
      </p:sp>
      <p:pic>
        <p:nvPicPr>
          <p:cNvPr id="72" name="Snapshot_dbdoc_by_date_08182003" descr=""/>
          <p:cNvPicPr/>
          <p:nvPr/>
        </p:nvPicPr>
        <p:blipFill>
          <a:blip r:embed="rId1"/>
          <a:stretch/>
        </p:blipFill>
        <p:spPr>
          <a:xfrm>
            <a:off x="147600" y="1066680"/>
            <a:ext cx="8996400" cy="511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746748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Univers"/>
              </a:rPr>
              <a:t>dbexport emails By Subject</a:t>
            </a:r>
            <a:endParaRPr b="1" lang="en-US" sz="4000" spc="-1" strike="noStrike">
              <a:solidFill>
                <a:srgbClr val="ffffff"/>
              </a:solidFill>
              <a:latin typeface="Univers"/>
            </a:endParaRPr>
          </a:p>
        </p:txBody>
      </p:sp>
      <p:pic>
        <p:nvPicPr>
          <p:cNvPr id="74" name="Snapshot_dbdoc_by_subject_08182003" descr=""/>
          <p:cNvPicPr/>
          <p:nvPr/>
        </p:nvPicPr>
        <p:blipFill>
          <a:blip r:embed="rId1"/>
          <a:stretch/>
        </p:blipFill>
        <p:spPr>
          <a:xfrm>
            <a:off x="0" y="1066680"/>
            <a:ext cx="9144000" cy="50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746748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Univers"/>
              </a:rPr>
              <a:t>Tracking Export Files</a:t>
            </a:r>
            <a:endParaRPr b="1" lang="en-US" sz="40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371600"/>
            <a:ext cx="7467480" cy="45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*****************************************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xisting dbexport export files..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*****************************************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current sysdat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Sun Aug 17 15:39:56 PDT 2003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cd ${EXPORTDIR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/db/archive/ISEDB/dbexport_exp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total 5963184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-rw-r--r--   1 oracle   dba      195651476 Aug  1 15:36 DBEXPORT_ISEDB_08012003_15:30:02.exp.Z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-rw-r--r--   1 oracle   dba      197080229 Aug  2 15:36 DBEXPORT_ISEDB_08022003_15:30:03.exp.Z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-rw-r--r--   1 oracle   dba      198525161 Aug  3 15:36 DBEXPORT_ISEDB_08032003_15:30:03.exp.Z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-rw-r--r--   1 oracle   dba      200042388 Aug  4 15:36 DBEXPORT_ISEDB_08042003_15:30:03.exp.Z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-rw-r--r--   1 oracle   dba      167474155 Aug  5 15:36 DBEXPORT_ISEDB_08052003_15:30:02.exp.Z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-rw-r--r--   1 oracle   dba      175931281 Aug  6 15:36 DBEXPORT_ISEDB_08062003_15:30:01.exp.Z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-rw-r--r--   1 oracle   dba      177592593 Aug  7 15:36 DBEXPORT_ISEDB_08072003_15:30:01.exp.Z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-rw-r--r--   1 oracle   dba      179231985 Aug  8 15:36 DBEXPORT_ISEDB_08082003_15:30:02.exp.Z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-rw-r--r--   1 oracle   dba      180907372 Aug  9 15:36 DBEXPORT_ISEDB_08092003_15:30:01.exp.Z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-rw-r--r--   1 oracle   dba      182555091 Aug 10 15:36 DBEXPORT_ISEDB_08102003_15:30:02.exp.Z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-rw-r--r--   1 oracle   dba      166163181 Aug 11 15:36 DBEXPORT_ISEDB_08112003_15:30:02.exp.Z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-rw-r--r--   1 oracle   dba      167849927 Aug 12 15:36 DBEXPORT_ISEDB_08122003_15:30:02.exp.Z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-rw-r--r--   1 oracle   dba      169539345 Aug 13 15:36 DBEXPORT_ISEDB_08132003_15:30:01.exp.Z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-rw-r--r--   1 oracle   dba      171279375 Aug 14 15:36 DBEXPORT_ISEDB_08142003_15:30:03.exp.Z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-rw-r--r--   1 oracle   dba      172940377 Aug 15 15:36 DBEXPORT_ISEDB_08152003_15:30:03.exp.Z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-rw-r--r--   1 oracle   dba      173841037 Aug 16 15:36 DBEXPORT_ISEDB_08162003_15:30:01.exp.Z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-rw-r--r--   1 oracle   dba      174806577 Aug 17 15:36 DBEXPORT_ISEDB_08172003_15:30:04.exp.Z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746748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Univers"/>
              </a:rPr>
              <a:t>Tracking Export Files</a:t>
            </a:r>
            <a:endParaRPr b="1" lang="en-US" sz="40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1295280"/>
            <a:ext cx="7467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85800" y="1295280"/>
            <a:ext cx="7467480" cy="37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*****************************************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Remove dbexport export files older than 14 day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*****************************************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/db/archive/ISEDB/dbexport_exp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total 558083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-rw-r--r--   1 oracle   dba      197080229 Aug  2 15:36 DBEXPORT_ISEDB_08022003_15:30:03.exp.Z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-rw-r--r--   1 oracle   dba      198525161 Aug  3 15:36 DBEXPORT_ISEDB_08032003_15:30:03.exp.Z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-rw-r--r--   1 oracle   dba      200042388 Aug  4 15:36 DBEXPORT_ISEDB_08042003_15:30:03.exp.Z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-rw-r--r--   1 oracle   dba      167474155 Aug  5 15:36 DBEXPORT_ISEDB_08052003_15:30:02.exp.Z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-rw-r--r--   1 oracle   dba      175931281 Aug  6 15:36 DBEXPORT_ISEDB_08062003_15:30:01.exp.Z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-rw-r--r--   1 oracle   dba      177592593 Aug  7 15:36 DBEXPORT_ISEDB_08072003_15:30:01.exp.Z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-rw-r--r--   1 oracle   dba      179231985 Aug  8 15:36 DBEXPORT_ISEDB_08082003_15:30:02.exp.Z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-rw-r--r--   1 oracle   dba      180907372 Aug  9 15:36 DBEXPORT_ISEDB_08092003_15:30:01.exp.Z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-rw-r--r--   1 oracle   dba      182555091 Aug 10 15:36 DBEXPORT_ISEDB_08102003_15:30:02.exp.Z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-rw-r--r--   1 oracle   dba      166163181 Aug 11 15:36 DBEXPORT_ISEDB_08112003_15:30:02.exp.Z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-rw-r--r--   1 oracle   dba      167849927 Aug 12 15:36 DBEXPORT_ISEDB_08122003_15:30:02.exp.Z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-rw-r--r--   1 oracle   dba      169539345 Aug 13 15:36 DBEXPORT_ISEDB_08132003_15:30:01.exp.Z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-rw-r--r--   1 oracle   dba      171279375 Aug 14 15:36 DBEXPORT_ISEDB_08142003_15:30:03.exp.Z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-rw-r--r--   1 oracle   dba      172940377 Aug 15 15:36 DBEXPORT_ISEDB_08152003_15:30:03.exp.Z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-rw-r--r--   1 oracle   dba      173841037 Aug 16 15:36 DBEXPORT_ISEDB_08162003_15:30:01.exp.Z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-rw-r--r--   1 oracle   dba      174806577 Aug 17 15:36 DBEXPORT_ISEDB_08172003_15:30:04.exp.Z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nd of dbexpor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746748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Univers"/>
              </a:rPr>
              <a:t>What Was Needed</a:t>
            </a:r>
            <a:endParaRPr b="1" lang="en-US" sz="40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7848720" cy="407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Univers"/>
              </a:rPr>
              <a:t>Monitor status of development databases</a:t>
            </a: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  <a:p>
            <a:pPr lvl="1" marL="971640" indent="-343080">
              <a:spcBef>
                <a:spcPts val="601"/>
              </a:spcBef>
              <a:buClr>
                <a:srgbClr val="ffffff"/>
              </a:buClr>
              <a:buSzPct val="75000"/>
              <a:buFont typeface="Univer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Univers"/>
              </a:rPr>
              <a:t>Some ‘production’ dbs</a:t>
            </a:r>
            <a:endParaRPr b="0" lang="en-US" sz="2400" spc="-1" strike="noStrike">
              <a:solidFill>
                <a:srgbClr val="ffffff"/>
              </a:solidFill>
              <a:latin typeface="Univers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Univers"/>
              </a:rPr>
              <a:t>Regular backups</a:t>
            </a: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Univers"/>
              </a:rPr>
              <a:t>Support multiple dbs</a:t>
            </a: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Univers"/>
              </a:rPr>
              <a:t>Easy to add, remove dbs, DBAs</a:t>
            </a: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Univers"/>
              </a:rPr>
              <a:t>Platform independent</a:t>
            </a: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Univers"/>
              </a:rPr>
              <a:t>Database vendor independent</a:t>
            </a: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Univers"/>
              </a:rPr>
              <a:t>Free (i.e. no money to spend)</a:t>
            </a: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746748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Univers"/>
              </a:rPr>
              <a:t>Checking Email Output</a:t>
            </a:r>
            <a:endParaRPr b="1" lang="en-US" sz="40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7848720" cy="407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Univers"/>
              </a:rPr>
              <a:t>Did the cron job run?</a:t>
            </a: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Univers"/>
              </a:rPr>
              <a:t>Is the db on-line?</a:t>
            </a: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Univers"/>
              </a:rPr>
              <a:t>Did the export complete without errors?</a:t>
            </a: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Univers"/>
              </a:rPr>
              <a:t>Did the older files get purged?</a:t>
            </a: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746748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Univers"/>
              </a:rPr>
              <a:t>dbdoc -- Checking Email</a:t>
            </a:r>
            <a:endParaRPr b="1" lang="en-US" sz="40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83" name=""/>
          <p:cNvSpPr/>
          <p:nvPr/>
        </p:nvSpPr>
        <p:spPr>
          <a:xfrm>
            <a:off x="685800" y="1066680"/>
            <a:ext cx="7848720" cy="48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This is output from TAO DBA script dbdoc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*****************************************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dat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Mon Aug 18 15:00:04 PDT 2003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*****************************************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Document shell script environment for dbdoc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*****************************************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*****************************************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${ORACLE_OWNER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oracl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*****************************************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${ORACLE_HOME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/db/oracle/app/oracle/product/8.1.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*****************************************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${DBDOC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/db/oracle/app/oracle/product/8.1.7/admin/dbdoc_log/DBDOC_ISEDB_08182003_15:00:04.ou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*****************************************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${ORACLE_SID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ISEDB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746748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Univers"/>
              </a:rPr>
              <a:t>dbdoc -- Checking Email</a:t>
            </a:r>
            <a:endParaRPr b="1" lang="en-US" sz="40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1143000"/>
            <a:ext cx="7772400" cy="39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*****************************************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lsnrctl statu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LSNRCTL for Solaris: Version 8.1.7.4.0 - Production on 18-AUG-2003 15:00:0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(c) Copyright 1998 Oracle Corporation.  All rights reserved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Connecting to (DESCRIPTION=(ADDRESS=(PROTOCOL=TCP)(HOST=akula)(PORT=1521)))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STATUS of the LISTEN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------------------------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Alias                     LISTEN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Version                   TNSLSNR for Solaris: Version 8.1.7.4.0 - Produc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Start Date                15-AUG-2003 09:47:49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Uptime                    3 days 5 hr. 12 min. 16 sec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Trace Level               off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Security                  OFF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SNMP                      OFF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Listener Parameter File   /export/home/oracle/admin/etc/listener.or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Listener Log File         /db/oracle/app/oracle/product/8.1.7/network/log/listener.lo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Services Summary..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ISEDB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has 2 service handler(s)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The command completed successfully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746748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Univers"/>
              </a:rPr>
              <a:t>dbdoc -- Checking Email</a:t>
            </a:r>
            <a:endParaRPr b="1" lang="en-US" sz="40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87" name=""/>
          <p:cNvSpPr/>
          <p:nvPr/>
        </p:nvSpPr>
        <p:spPr>
          <a:xfrm>
            <a:off x="685800" y="1143000"/>
            <a:ext cx="7772400" cy="550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SVRMGR&gt; select * from v$database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DBID       NAME      CREATED   RESETLOGS_ RESETLOGS PRIOR_RESE PRIOR_RES LOG_MODE     CHECKPOINT ARCHIVE_CH CONTROL CONTROLFI CONTROLFIL CONTROLFIL CONTROLFI OPEN_RESETL VERSION_T OPEN_MODE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---------- --------- --------- ---------- --------- ---------- --------- ------------ ---------- ---------- ------- --------- ---------- ---------- --------- ----------- --------- ----------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1676441298 ISEDB     12-DEC-01          1 12-DEC-01          0           NOARCHIVELOG   17261606   17260115 CURRENT 12-DEC-01       9760   17261662 18-AUG-03 NOT ALLOWED 12-DEC-01 READ WRIT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1 row selected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SVRMGR&gt; exi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*****************************************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Document recent contents of alert lo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*****************************************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SVRMGR&gt; select value from v$parameter where name='background_dump_dest'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VALUE                                                                          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--------------------------------------------------------------------------------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/export/home/oracle/admin/ISEDB/bdump                                          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1 row selected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SVRMGR&gt; exi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--&gt; background_dump_dest path i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/export/home/oracle/admin/ISEDB/bdump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--&gt; alert log file name i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alert_ISEDB.lo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--&gt; tail -500 of alert file i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ARC0: media recovery disabled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Sun Aug 10 16:11:52 2003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Thread 1 advanced to log sequence 247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Current log# 1 seq# 2477 mem# 0: /db/redo/ISEDB/log/redo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Current log# 1 seq# 2477 mem# 1: /db/redo/ISEDB/loga/redo1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746748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Univers"/>
              </a:rPr>
              <a:t>dbexport -- Email output</a:t>
            </a:r>
            <a:endParaRPr b="1" lang="en-US" sz="40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89" name=""/>
          <p:cNvSpPr/>
          <p:nvPr/>
        </p:nvSpPr>
        <p:spPr>
          <a:xfrm>
            <a:off x="762120" y="1143000"/>
            <a:ext cx="7696080" cy="47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*****************************************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start time of expor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Mon Aug 18 15:30:03 PDT 2003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Connected to: Oracle8i Enterprise Edition Release 8.1.7.4.0 - Produc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ith the Partitioning op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JServer Release 8.1.7.4.0 - Produc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xport done in UTF8 character set and UTF8 NCHAR character se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..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About to export the entire database ..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. exporting snapshot log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. exporting job queue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. exporting refresh groups and childre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. exporting dimension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. exporting post-schema procedural objects and action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. exporting user history tabl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. exporting default and system auditing option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. exporting statistic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xport terminated successfully without warnings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*****************************************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nd time of expor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Mon Aug 18 15:36:19 PDT 2003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746748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Univers"/>
              </a:rPr>
              <a:t>dbsttspck_rm -- Check Email</a:t>
            </a:r>
            <a:endParaRPr b="1" lang="en-US" sz="40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91" name=""/>
          <p:cNvSpPr/>
          <p:nvPr/>
        </p:nvSpPr>
        <p:spPr>
          <a:xfrm>
            <a:off x="685800" y="1143000"/>
            <a:ext cx="7848720" cy="443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This is output from TAO DBA script dbsttspck_r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*****************************************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dat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Sun Aug 17 16:00:05 PDT 2003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*****************************************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Values for this run of dbsttspck_r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*****************************************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value of MIN_SNAPID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308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value of MAX_SNAPID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6634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value of TRUNC_SNAPID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375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value of RETENTION_TIME_DAY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3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*****************************************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Document shell script environment for dbsttspck_r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*****************************************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746748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Univers"/>
              </a:rPr>
              <a:t>dbsttspck_rm -- Check Email</a:t>
            </a:r>
            <a:endParaRPr b="1" lang="en-US" sz="40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93" name=""/>
          <p:cNvSpPr/>
          <p:nvPr/>
        </p:nvSpPr>
        <p:spPr>
          <a:xfrm>
            <a:off x="685800" y="1143000"/>
            <a:ext cx="7848720" cy="53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*****************************************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start time of expor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Sun Aug 17 16:00:06 PDT 2003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Connected to: Oracle8i Enterprise Edition Release 8.1.7.4.0 - Produc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ith the Partitioning op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JServer Release 8.1.7.4.0 - Produc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xport done in UTF8 character set and UTF8 NCHAR character se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. exporting pre-schema procedural objects and action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. exporting foreign function library names for user PERFSTAT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. exporting object type definitions for user PERFSTAT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About to export PERFSTAT's objects ..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. exporting database link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. exporting sequence number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. exporting cluster definition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. about to export PERFSTAT's tables via Conventional Path ..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. . exporting table         STATS$BG_EVENT_SUMMARY      69403 rows exported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. . exporting table   STATS$BUFFER_POOL_STATISTICS       3551 rows exported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. . exporting table        STATS$DATABASE_INSTANCE          3 rows exported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..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. exporting dimension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. exporting post-schema procedural objects and action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. exporting statistic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xport terminated successfully without warnings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*****************************************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nd time of expor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Sun Aug 17 16:05:30 PDT 2003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746748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Univers"/>
              </a:rPr>
              <a:t>cron Scripts -- Details</a:t>
            </a:r>
            <a:endParaRPr b="1" lang="en-US" sz="40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7848720" cy="407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Univers"/>
              </a:rPr>
              <a:t>dbdoc</a:t>
            </a: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  <a:p>
            <a:pPr lvl="1" marL="971640" indent="-343080">
              <a:spcBef>
                <a:spcPts val="601"/>
              </a:spcBef>
              <a:buClr>
                <a:srgbClr val="ffffff"/>
              </a:buClr>
              <a:buSzPct val="75000"/>
              <a:buFont typeface="Univer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Univers"/>
              </a:rPr>
              <a:t>Document database</a:t>
            </a:r>
            <a:endParaRPr b="0" lang="en-US" sz="2400" spc="-1" strike="noStrike">
              <a:solidFill>
                <a:srgbClr val="ffffff"/>
              </a:solidFill>
              <a:latin typeface="Univers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Univers"/>
              </a:rPr>
              <a:t>dbexport</a:t>
            </a: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  <a:p>
            <a:pPr lvl="1" marL="971640" indent="-343080">
              <a:spcBef>
                <a:spcPts val="601"/>
              </a:spcBef>
              <a:buClr>
                <a:srgbClr val="ffffff"/>
              </a:buClr>
              <a:buSzPct val="75000"/>
              <a:buFont typeface="Univer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Univers"/>
              </a:rPr>
              <a:t>Full export</a:t>
            </a:r>
            <a:endParaRPr b="0" lang="en-US" sz="2400" spc="-1" strike="noStrike">
              <a:solidFill>
                <a:srgbClr val="ffffff"/>
              </a:solidFill>
              <a:latin typeface="Univers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Univers"/>
              </a:rPr>
              <a:t>dbsttspck</a:t>
            </a: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  <a:p>
            <a:pPr lvl="1" marL="971640" indent="-343080">
              <a:spcBef>
                <a:spcPts val="601"/>
              </a:spcBef>
              <a:buClr>
                <a:srgbClr val="ffffff"/>
              </a:buClr>
              <a:buSzPct val="75000"/>
              <a:buFont typeface="Univer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Univers"/>
              </a:rPr>
              <a:t>Execute STATSPACK snapshot</a:t>
            </a:r>
            <a:endParaRPr b="0" lang="en-US" sz="2400" spc="-1" strike="noStrike">
              <a:solidFill>
                <a:srgbClr val="ffffff"/>
              </a:solidFill>
              <a:latin typeface="Univers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Univers"/>
              </a:rPr>
              <a:t>dbsttspck_rm</a:t>
            </a: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  <a:p>
            <a:pPr lvl="1" marL="971640" indent="-343080">
              <a:spcBef>
                <a:spcPts val="601"/>
              </a:spcBef>
              <a:buClr>
                <a:srgbClr val="ffffff"/>
              </a:buClr>
              <a:buSzPct val="75000"/>
              <a:buFont typeface="Univer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Univers"/>
              </a:rPr>
              <a:t>Purge old snapshot data</a:t>
            </a:r>
            <a:endParaRPr b="0" lang="en-US" sz="2400" spc="-1" strike="noStrike">
              <a:solidFill>
                <a:srgbClr val="ffffff"/>
              </a:solidFill>
              <a:latin typeface="Univer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746748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Univers"/>
              </a:rPr>
              <a:t>dbdoc</a:t>
            </a:r>
            <a:endParaRPr b="1" lang="en-US" sz="40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7848720" cy="407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Univers"/>
              </a:rPr>
              <a:t>Uses OS commands</a:t>
            </a: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  <a:p>
            <a:pPr lvl="1" marL="971640" indent="-343080">
              <a:spcBef>
                <a:spcPts val="601"/>
              </a:spcBef>
              <a:buClr>
                <a:srgbClr val="ffffff"/>
              </a:buClr>
              <a:buSzPct val="75000"/>
              <a:buFont typeface="Univer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Univers"/>
              </a:rPr>
              <a:t>Document machine, environment</a:t>
            </a:r>
            <a:endParaRPr b="0" lang="en-US" sz="2400" spc="-1" strike="noStrike">
              <a:solidFill>
                <a:srgbClr val="ffffff"/>
              </a:solidFill>
              <a:latin typeface="Univers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Univers"/>
              </a:rPr>
              <a:t>svrmgrl to access database</a:t>
            </a: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  <a:p>
            <a:pPr lvl="1" marL="971640" indent="-343080">
              <a:spcBef>
                <a:spcPts val="601"/>
              </a:spcBef>
              <a:buClr>
                <a:srgbClr val="ffffff"/>
              </a:buClr>
              <a:buSzPct val="75000"/>
              <a:buFont typeface="Univer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Univers"/>
              </a:rPr>
              <a:t>sqlplus for 9i</a:t>
            </a:r>
            <a:endParaRPr b="0" lang="en-US" sz="2400" spc="-1" strike="noStrike">
              <a:solidFill>
                <a:srgbClr val="ffffff"/>
              </a:solidFill>
              <a:latin typeface="Univers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Univers"/>
              </a:rPr>
              <a:t>Password not in script</a:t>
            </a: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  <a:p>
            <a:pPr lvl="1" marL="971640" indent="-343080">
              <a:spcBef>
                <a:spcPts val="601"/>
              </a:spcBef>
              <a:buClr>
                <a:srgbClr val="ffffff"/>
              </a:buClr>
              <a:buSzPct val="75000"/>
              <a:buFont typeface="Univer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Univers"/>
              </a:rPr>
              <a:t>Use OS authentication</a:t>
            </a:r>
            <a:endParaRPr b="0" lang="en-US" sz="2400" spc="-1" strike="noStrike">
              <a:solidFill>
                <a:srgbClr val="ffffff"/>
              </a:solidFill>
              <a:latin typeface="Univer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746748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Univers"/>
              </a:rPr>
              <a:t>dbdoc</a:t>
            </a:r>
            <a:endParaRPr b="1" lang="en-US" sz="40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99" name=""/>
          <p:cNvSpPr/>
          <p:nvPr/>
        </p:nvSpPr>
        <p:spPr>
          <a:xfrm>
            <a:off x="685800" y="1219320"/>
            <a:ext cx="7772400" cy="51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#!/bin/sh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#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# This is dbdoc -- script version of extended checklis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# to document an Oracle database and the host machine i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# is running 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#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# this version also removes dbdoc log file over XX days old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#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# added more SQL for partitioned tables, indexe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# added SQL to compute %used for tablespace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# improved SQL for partitioned tables, indexe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#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# setup environment parameters for the scrip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ORACLE_SID=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xport ORACLE_SID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ORACLE_OWNER=oracl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xport $ORACLE_OWN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ORACLE_HOME=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xport ORACLE_HOM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NOTIFY_LIST='&lt;email address&gt;'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xport NOTIFY_LIS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LD_LIBRARY_PATH=$ORACLE_HOME/lib:/usr/lib:/usr/openwin/lib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xport LD_LIBRARY_PATH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PATH=/bin:/usr/bin:/usr/ccs/bin:/usr/sbin:${ORACLE_HOME}/bin: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xport PATH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NLS_LANG=AMERICAN_AMERICA.US7ASCII, .WE8ISO8859P1, .UTF8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xport NLS_LAN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LOGDIR=$ORACLE_HOME/admin/dbdoc_lo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xport LOGDI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RETENTION_TIME_DAYS=&lt;number of days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746748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Univers"/>
              </a:rPr>
              <a:t>Why Was This Needed?</a:t>
            </a:r>
            <a:endParaRPr b="1" lang="en-US" sz="40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7848720" cy="407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Univers"/>
              </a:rPr>
              <a:t>Production database support</a:t>
            </a: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  <a:p>
            <a:pPr lvl="1" marL="923040" indent="-325800">
              <a:spcBef>
                <a:spcPts val="601"/>
              </a:spcBef>
              <a:buClr>
                <a:srgbClr val="ffffff"/>
              </a:buClr>
              <a:buSzPct val="75000"/>
              <a:buFont typeface="Univer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Univers"/>
              </a:rPr>
              <a:t>Data centers</a:t>
            </a:r>
            <a:endParaRPr b="0" lang="en-US" sz="2400" spc="-1" strike="noStrike">
              <a:solidFill>
                <a:srgbClr val="ffffff"/>
              </a:solidFill>
              <a:latin typeface="Univers"/>
            </a:endParaRPr>
          </a:p>
          <a:p>
            <a:pPr marL="325800" indent="-325800">
              <a:spcBef>
                <a:spcPts val="700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Univers"/>
              </a:rPr>
              <a:t>Development database support</a:t>
            </a: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  <a:p>
            <a:pPr lvl="1" marL="923040" indent="-325800">
              <a:spcBef>
                <a:spcPts val="601"/>
              </a:spcBef>
              <a:buClr>
                <a:srgbClr val="ffffff"/>
              </a:buClr>
              <a:buSzPct val="75000"/>
              <a:buFont typeface="Univer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Univers"/>
              </a:rPr>
              <a:t>None</a:t>
            </a:r>
            <a:endParaRPr b="0" lang="en-US" sz="2400" spc="-1" strike="noStrike">
              <a:solidFill>
                <a:srgbClr val="ffffff"/>
              </a:solidFill>
              <a:latin typeface="Univers"/>
            </a:endParaRPr>
          </a:p>
          <a:p>
            <a:pPr lvl="1" marL="923040" indent="-325800">
              <a:spcBef>
                <a:spcPts val="601"/>
              </a:spcBef>
              <a:buClr>
                <a:srgbClr val="ffffff"/>
              </a:buClr>
              <a:buSzPct val="75000"/>
              <a:buFont typeface="Univer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Univers"/>
              </a:rPr>
              <a:t>Some ‘production’ dbs as well</a:t>
            </a:r>
            <a:endParaRPr b="0" lang="en-US" sz="2400" spc="-1" strike="noStrike">
              <a:solidFill>
                <a:srgbClr val="ffffff"/>
              </a:solidFill>
              <a:latin typeface="Univers"/>
            </a:endParaRPr>
          </a:p>
          <a:p>
            <a:pPr marL="325800" indent="-325800">
              <a:spcBef>
                <a:spcPts val="700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Univers"/>
              </a:rPr>
              <a:t>Need to monitor, backup, support all dbs not in data centers</a:t>
            </a: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  <a:p>
            <a:pPr marL="325800" indent="-325800">
              <a:spcBef>
                <a:spcPts val="700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Univers"/>
              </a:rPr>
              <a:t>Some dbs outside company firewalls</a:t>
            </a: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  <a:p>
            <a:pPr lvl="1" marL="923040" indent="-325800">
              <a:spcBef>
                <a:spcPts val="601"/>
              </a:spcBef>
              <a:buClr>
                <a:srgbClr val="ffffff"/>
              </a:buClr>
              <a:buSzPct val="75000"/>
              <a:buFont typeface="Univer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Univers"/>
              </a:rPr>
              <a:t>Standard monitoring tools don’t work</a:t>
            </a:r>
            <a:endParaRPr b="0" lang="en-US" sz="2400" spc="-1" strike="noStrike">
              <a:solidFill>
                <a:srgbClr val="ffffff"/>
              </a:solidFill>
              <a:latin typeface="Univer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746748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Univers"/>
              </a:rPr>
              <a:t>dbdoc</a:t>
            </a:r>
            <a:endParaRPr b="1" lang="en-US" sz="40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1219320"/>
            <a:ext cx="7772400" cy="47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xport RETENTION_TIME_DAY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DBDOCLOG=${LOGDIR}/DBDOC_${ORACLE_SID}_`date +\%m\%d\%Y_\%T`.ou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xport DBDOCLO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SVRMGRL_TMP=${LOGDIR}/SVRMGRL_TMP_${ORACLE_SID}_`date +\%m\%d\%Y_\%T`.ou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xport SVRMGRL_TMP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CSHRC_FILE=~/.cshrc_&lt;SI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xport CSHRC_FIL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INIT_FILE_PATH=$ORACLE_HOME/admin/pfil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xport INIT_FILE_PATH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CRDB_FILE_PATH=$ORACLE_HOME/admin/sq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xport CRDB_FILE_PATH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LISTENER_PATH=$ORACLE_HOME/admin/network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xport LISTENER_PATH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TNSNAMES_PATH=$ORACLE_HOME/admin/network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xport TNSNAMES_PATH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#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# DBDOCLOG2 is setup to catch the useless output of svrmgr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# and put we put this file in /dev/null so it really won'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# appear on disk at all. Without this file, all the text of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# every svrmgrl connect will appear on screen when this scrip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# is run from the command line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#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DBDOCLOG2=/dev/nul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xport DBDOCLOG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This is output from TAO DBA script dbdoc' &gt; ${DBDOC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746748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Univers"/>
              </a:rPr>
              <a:t>dbdoc</a:t>
            </a:r>
            <a:endParaRPr b="1" lang="en-US" sz="40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1219320"/>
            <a:ext cx="7696080" cy="50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 ' &gt;&gt; ${DBDOC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*****************************************' &gt;&gt; ${DBDOC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date' &gt;&gt; ${DBDOC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 ' &gt;&gt; ${DBDOC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date &gt;&gt; ${DBDOC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#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# document shell script environment for dbdoc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#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 ' &gt;&gt; ${DBDOC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*****************************************' &gt;&gt; ${DBDOC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Document shell script environment for dbdoc' &gt;&gt; ${DBDOC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*****************************************' &gt;&gt; ${DBDOC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 ' &gt;&gt; ${DBDOC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*****************************************' &gt;&gt; ${DBDOC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echo ${ORACLE_OWNER}' &gt;&gt; ${DBDOC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 ' &gt;&gt; ${DBDOC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${ORACLE_OWNER} &gt;&gt; ${DBDOC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${ORACLE_HOME} &gt;&gt; ${DBDOC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${DBDOCLOG} &gt;&gt; ${DBDOC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${ORACLE_SID} &gt;&gt; ${DBDOC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cat ${CSHRC_FILE} &gt;&gt; ${DBDOC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nv &gt;&gt; ${DBDOC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#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# document the server machin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#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746748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Univers"/>
              </a:rPr>
              <a:t>dbdoc</a:t>
            </a:r>
            <a:endParaRPr b="1" lang="en-US" sz="40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105" name=""/>
          <p:cNvSpPr/>
          <p:nvPr/>
        </p:nvSpPr>
        <p:spPr>
          <a:xfrm>
            <a:off x="685800" y="1219320"/>
            <a:ext cx="7848720" cy="48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 ' &gt;&gt; ${DBDOC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*****************************************' &gt;&gt; ${DBDOC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Document the server machine' &gt;&gt; ${DBDOC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*****************************************' &gt;&gt; ${DBDOC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hostname &gt;&gt; ${DBDOC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uptime &gt;&gt; ${DBDOC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/usr/bin/getconf CLK_TCK &gt;&gt; ${DBDOC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/usr/sbin/prtconf &gt;&gt; ${DBDOC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uname -a &gt;&gt; ${DBDOC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df -k &gt;&gt; ${DBDOC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ls -l / &gt;&gt; ${DBDOC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cat /etc/vfstab &gt;&gt; ${DBDOC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ls -l /var/opt &gt;&gt; ${DBDOC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ls -l /opt &gt;&gt; ${DBDOC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ls -Ll /dev/rdsk | grep oracle &gt;&gt; ${DBDOC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ls -Ll /dev/rdsk | grep sybase &gt;&gt; ${DBDOC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tail -40 /etc/system &gt;&gt; ${DBDOC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cat /etc/passwd &gt;&gt; ${DBDOC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cat /etc/group &gt;&gt; ${DBDOC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#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# document the UNIX user oracl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#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 ' &gt;&gt; ${DBDOC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*****************************************' &gt;&gt; ${DBDOC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Document the UNIX user oracle' &gt;&gt; ${DBDOC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*****************************************' &gt;&gt; ${DBDOC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746748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Univers"/>
              </a:rPr>
              <a:t>dbdoc</a:t>
            </a:r>
            <a:endParaRPr b="1" lang="en-US" sz="40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107" name=""/>
          <p:cNvSpPr/>
          <p:nvPr/>
        </p:nvSpPr>
        <p:spPr>
          <a:xfrm>
            <a:off x="685800" y="1143000"/>
            <a:ext cx="7848720" cy="45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 ' &gt;&gt; ${DBDOC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*****************************************' &gt;&gt; ${DBDOC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id' &gt;&gt; ${DBDOC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 ' &gt;&gt; ${DBDOC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id &gt;&gt; ${DBDOC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pwd &gt;&gt; ${DBDOC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${CSHRC_FILE} &gt;&gt; ${DBDOC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cat ${CSHRC_FILE} &gt;&gt; ${DBDOC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#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# document the Oracle database instanc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#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 ' &gt;&gt; ${DBDOC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*****************************************' &gt;&gt; ${DBDOC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Document the Oracle database instance' &gt;&gt; ${DBDOC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*****************************************' &gt;&gt; ${DBDOC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 ' &gt;&gt; ${DBDOC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*****************************************' &gt;&gt; ${DBDOC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ps -ef | grep oracle' &gt;&gt; ${DBDOC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 ' &gt;&gt; ${DBDOC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ps -ef | grep oracle &gt;&gt; ${DBDOC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crontab -l oracle &gt;&gt; ${DBDOC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lsnrctl status &gt;&gt; ${DBDOC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746748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Univers"/>
              </a:rPr>
              <a:t>dbdoc</a:t>
            </a:r>
            <a:endParaRPr b="1" lang="en-US" sz="40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109" name=""/>
          <p:cNvSpPr/>
          <p:nvPr/>
        </p:nvSpPr>
        <p:spPr>
          <a:xfrm>
            <a:off x="685800" y="1143000"/>
            <a:ext cx="7848720" cy="50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 ' &gt;&gt; ${DBDOC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svrmgrl &lt;&lt; EOF &gt;&gt; ${DBDOCLOG2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set termout off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set echo 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connect interna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spool '$SVRMGRL_TMP'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select * from v\$database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xi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OF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cat $SVRMGRL_TMP &gt;&gt; ${DBDOC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select * from v\$instance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show sg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select * from v\$version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select * from v\$option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select * from v\$datafile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select * from dba_data_files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select * from dba_tablespaces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select * from v\$logfile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select * from v\$log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archive log lis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select count(first_change#) "logswitches per hour" , to_char(first_time,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'yyyy.mm.dd HH24') "on hour" from v\$loghist group by to_char(first_time, 'yyyy.mm.dd HH24')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select * from dba_rollback_segs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select segment_name, tablespace_name, initial_extent, next_extent, min_extents,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max_extents, pct_increase, status from dba_rollback_segs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select usn, optsize, extents from v\$rollsta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select * from v\$controlfile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select tablespace_name, sum(bytes)/1024/1024 Mb from dba_data_file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select tablespace_name, sum(bytes)/1024/1024 Mb from dba_free_space group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by tablespace_name order by tablespace_name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746748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Univers"/>
              </a:rPr>
              <a:t>dbdoc</a:t>
            </a:r>
            <a:endParaRPr b="1" lang="en-US" sz="40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" y="1143000"/>
            <a:ext cx="7848720" cy="51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select tablespace_name, sum(bytes)/1024/1024 Mb, count (Blocks) Tb, min(Bytes)/1024/1024 MinMb,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max(Bytes)/1024/1024 MaxMb from dba_free_space group by tablespace_name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select sum(bytes)/1024/1024 Db_Total_Megabytes from dba_data_files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select sum(bytes)/1024/1024 Db_Total_Free_Megabytes from dba_free_space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select a.t1 "Tablespace", trunc(b.Mb) "Total Mb", trunc(a.Mb) "Used Mb",          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trunc(b.Mb-a.Mb) "Free Mb",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trunc((a.Mb/b.Mb)*100) "Used%"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from (select tablespace_name t1, sum(bytes)/1024/1024 Mb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from sys.dba_extent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group by tablespace_name) a,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(select tablespace_name t2, sum(bytes)/1024/1024 Mb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from sys.dba_data_file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group by tablespace_name) b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here a.t1 = b.t2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select tablespace_name,initial_extent,next_extent,pct_increase,min_extents,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max_extents from dba_tablespaces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select * from v\$tempfile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select * from dba_temp_files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select count(*) from dba_part_tables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select table_name, partitioning_type, partition_count from dba_part_tables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select count(*) from dba_part_indexes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select index_name, partitioning_type, partition_count from dba_part_indexes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select name, object_type, count(*) from dba_part_key_columns group by name, object_type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select * from dba_part_key_columns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select table_name, index_name from dba_part_indexes wher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owner !='SYS' order by table_name, index_name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set long 10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select table_name, tablespace_name, partition_name, partition_position, high_value from dba_tab_partition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order by table_name, partition_position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set long 10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select index_name, tablespace_name, partition_name, partition_position, high_value from dba_ind_partition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order by index_name, partition_position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746748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Univers"/>
              </a:rPr>
              <a:t>dbdoc</a:t>
            </a:r>
            <a:endParaRPr b="1" lang="en-US" sz="40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" y="1143000"/>
            <a:ext cx="7924680" cy="50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select index_name, tablespace_name, status from dba_indexes where status like 'UNUSABLE%'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select index_name, partition_name, partition_position, tablespace_name, statu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from dba_ind_partitions where status like 'UNUSABLE%'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select tablespace_name, bytes/1024/1024 Mb, substr(file_name,1,40) from dba_temp_files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select tablespace_name, total_blocks*8192/1024/1024 TOTALMb, free_blocks*8192/1024/1024 FREEMb,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used_blocks*8192/1024/1024 USEDMb from v\$sort_segmen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select owner, count(*) from dba_objects group by owner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select owner, count(*), object_type from dba_objects group by object_type, owner order by owner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select owner, count(*) from dba_tables where tablespace_name='SYSTEM' group by owner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select owner, table_name from dba_tables where owner !='SYS' and tablespace_name='SYSTEM'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select count(*) from dba_objects where status='INVALID'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select owner, object_type, object_name, status from dba_object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here status='INVALID' order by owner, object_type, object_name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select * from dba_users order by username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select username,default_tablespace, temporary_tablespace fr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dba_users order by username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select owner, sum(bytes)/1024/1024 Megabytes from dba_segments group by owner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select * from dba_ts_quotas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select * from dba_roles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select * from dba_role_privs where grantee not i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('DBA','DBSNMP','EXP_FULL_DATABASE','IMP_FULL_DATABASE',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'SYS','SYSTEM')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select * from dba_sys_privs where grantee not i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('CONNECT','DBA','DBSNMP','EXP_FULL_DATABASE','IMP_FULL_DATABASE',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'RECOVERY_CATALOG_OWNER','RESOURCE','SNMPAGENT','SYS','SYSTEM')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select name,value from v\$parameter order by name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select name, value from v\$parameter where isdefault = 'FALSE'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select * from nls_database_parameters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select * from dba_db_links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select * from dba_synonyms where table_owner !='SYS' and table_owner !='SYSTEM'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date &gt;&gt; ${DBDOC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746748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Univers"/>
              </a:rPr>
              <a:t>dbdoc</a:t>
            </a:r>
            <a:endParaRPr b="1" lang="en-US" sz="40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115" name=""/>
          <p:cNvSpPr/>
          <p:nvPr/>
        </p:nvSpPr>
        <p:spPr>
          <a:xfrm>
            <a:off x="685800" y="1143000"/>
            <a:ext cx="7848720" cy="550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alter database backup controlfile to trace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 ' &gt;&gt; ${DBDOC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*****************************************' &gt;&gt; ${DBDOC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Document the sql backup control file' &gt;&gt; ${DBDOC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*****************************************' &gt;&gt; ${DBDOC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select value from v\$parameter where name='user_dump_dest'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UDUMP_PATH=`tail -3 $SVRMGRL_TMP | head -1 | awk '{ print $1 }'`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UDUMP_FILE=`ls -1rt ${UDUMP_PATH} | tail -1`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ls -l ${UDUMP_PATH}/${UDUMP_FILE}  &gt;&gt; ${DBDOC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cat ${UDUMP_PATH}/${UDUMP_FILE} &gt;&gt; ${DBDOC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 ' &gt;&gt; ${DBDOC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*****************************************' &gt;&gt; ${DBDOC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Document the ${INIT_FILE_PATH}/init${ORACLE_SID}.ora file' &gt;&gt; ${DBDOC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*****************************************' &gt;&gt; ${DBDOC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${INIT_FILE_PATH} &gt;&gt; ${DBDOC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INIT_FILE=init${ORACLE_SID}.or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${INIT_FILE} &gt;&gt; ${DBDOC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cat ${INIT_FILE_PATH}/${INIT_FILE} &gt;&gt; ${DBDOC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 ' &gt;&gt; ${DBDOC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*****************************************' &gt;&gt; ${DBDOC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Document the crdb${ORACLE_SID} file' &gt;&gt; ${DBDOC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*****************************************' &gt;&gt; ${DBDOC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${CRDB_FILE_PATH} &gt;&gt; ${DBDOC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CRDB_FILE=crdb${ORACLE_SID}.sq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${CRDB_FILE} &gt;&gt; ${DBDOC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--&gt; crdb file contents' &gt;&gt; ${DBDOC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cat ${CRDB_FILE_PATH}/${CRDB_FILE} &gt;&gt; ${DBDOC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746748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Univers"/>
              </a:rPr>
              <a:t>dbdoc</a:t>
            </a:r>
            <a:endParaRPr b="1" lang="en-US" sz="40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1143000"/>
            <a:ext cx="7848720" cy="53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 ' &gt;&gt; ${DBDOC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*****************************************' &gt;&gt; ${DBDOC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Document the listener.ora file' &gt;&gt; ${DBDOC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*****************************************' &gt;&gt; ${DBDOC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${LISTENER_PATH} &gt;&gt; ${DBDOC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--&gt; file name is listener.ora' &gt;&gt; ${DBDOC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cat ${LISTENER_PATH}/listener.ora &gt;&gt; ${DBDOC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 ' &gt;&gt; ${DBDOC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*****************************************' &gt;&gt; ${DBDOC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Document the tnsnames.ora file' &gt;&gt; ${DBDOC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*****************************************' &gt;&gt; ${DBDOC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${TNSNAMES_PATH} &gt;&gt; ${DBDOC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--&gt; file name is tnsnames.ora' &gt;&gt; ${DBDOC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--&gt; tnsnames file contents' &gt;&gt; ${DBDOC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cat ${TNSNAMES_PATH}/tnsnames.ora &gt;&gt; ${DBDOC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 ' &gt;&gt; ${DBDOC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*****************************************' &gt;&gt; ${DBDOC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Document the /var/opt/oracle/oratab file' &gt;&gt; ${DBDOC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*****************************************' &gt;&gt; ${DBDOC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/var/opt/oracle &gt;&gt; ${DBDOC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--&gt; file name is oratab' &gt;&gt; ${DBDOC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cat /var/opt/oracle/oratab &gt;&gt; ${DBDOC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 ' &gt;&gt; ${DBDOC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*****************************************' &gt;&gt; ${DBDOC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Document recent contents of alert log' &gt;&gt; ${DBDOC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*****************************************' &gt;&gt; ${DBDOC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746748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Univers"/>
              </a:rPr>
              <a:t>dbdoc</a:t>
            </a:r>
            <a:endParaRPr b="1" lang="en-US" sz="40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119" name=""/>
          <p:cNvSpPr/>
          <p:nvPr/>
        </p:nvSpPr>
        <p:spPr>
          <a:xfrm>
            <a:off x="762120" y="1143000"/>
            <a:ext cx="7772400" cy="53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select value from v\$parameter where name='background_dump_dest'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ALERT_PATH=`tail -3 $SVRMGRL_TMP | head -1 | awk '{ print $1 }'`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${ALERT_PATH} &gt;&gt; ${DBDOC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ALERT_FILE=alert_${ORACLE_SID}.lo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${ALERT_FILE} &gt;&gt; ${DBDOC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tail -500 ${ALERT_PATH}/${ALERT_FILE} &gt;&gt; ${DBDOC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rm $SVRMGRL_TMP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 ' &gt;&gt; ${DBDOC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*****************************************' &gt;&gt; ${DBDOC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Existing dbdoc log files...' &gt;&gt; ${DBDOC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*****************************************' &gt;&gt; ${DBDOC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 ' &gt;&gt; ${DBDOC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current sysdate' &gt;&gt; ${DBDOC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date &gt;&gt; ${DBDOC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 ' &gt;&gt; ${DBDOC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cd $ORACLE_HOME/admin/dbdoc_log' &gt;&gt; ${DBDOC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cd ${LOGDIR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pwd &gt;&gt; ${DBDOC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ls -l &gt;&gt; ${DBDOC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 ' &gt;&gt; ${DBDOC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*****************************************' &gt;&gt; ${DBDOC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Remove dbdoc log files older than '${RETENTION_TIME_DAYS}' days' &gt;&gt; ${DBDOC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*****************************************' &gt;&gt; ${DBDOC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/usr/bin/find . -name "DBDOC_${ORACLE_SID}_*.out" -ctime +${RETENTION_TIME_DAYS} -exec /bin/rm {} \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 ' &gt;&gt; ${DBDOC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pwd &gt;&gt; ${DBDOC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ls -l &gt;&gt; ${DBDOC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746748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Univers"/>
              </a:rPr>
              <a:t>Requirements</a:t>
            </a:r>
            <a:endParaRPr b="1" lang="en-US" sz="40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7848720" cy="407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Univers"/>
              </a:rPr>
              <a:t>Support multiple databases</a:t>
            </a: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  <a:p>
            <a:pPr lvl="1" marL="961920" indent="-339480">
              <a:spcBef>
                <a:spcPts val="601"/>
              </a:spcBef>
              <a:buClr>
                <a:srgbClr val="ffffff"/>
              </a:buClr>
              <a:buSzPct val="75000"/>
              <a:buFont typeface="Univer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Univers"/>
              </a:rPr>
              <a:t>Easy to add/drop a db, DBA</a:t>
            </a:r>
            <a:endParaRPr b="0" lang="en-US" sz="2400" spc="-1" strike="noStrike">
              <a:solidFill>
                <a:srgbClr val="ffffff"/>
              </a:solidFill>
              <a:latin typeface="Univers"/>
            </a:endParaRPr>
          </a:p>
          <a:p>
            <a:pPr marL="339480" indent="-339480">
              <a:spcBef>
                <a:spcPts val="700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Univers"/>
              </a:rPr>
              <a:t>Platform independent</a:t>
            </a: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  <a:p>
            <a:pPr lvl="1" marL="961920" indent="-339480">
              <a:spcBef>
                <a:spcPts val="601"/>
              </a:spcBef>
              <a:buClr>
                <a:srgbClr val="ffffff"/>
              </a:buClr>
              <a:buSzPct val="75000"/>
              <a:buFont typeface="Univer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Univers"/>
              </a:rPr>
              <a:t>Doesn’t require any tools or products from any specific vendor</a:t>
            </a:r>
            <a:endParaRPr b="0" lang="en-US" sz="2400" spc="-1" strike="noStrike">
              <a:solidFill>
                <a:srgbClr val="ffffff"/>
              </a:solidFill>
              <a:latin typeface="Univers"/>
            </a:endParaRPr>
          </a:p>
          <a:p>
            <a:pPr marL="339480" indent="-339480">
              <a:spcBef>
                <a:spcPts val="700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Univers"/>
              </a:rPr>
              <a:t>Database vendor independent</a:t>
            </a: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  <a:p>
            <a:pPr lvl="1" marL="961920" indent="-339480">
              <a:spcBef>
                <a:spcPts val="601"/>
              </a:spcBef>
              <a:buClr>
                <a:srgbClr val="ffffff"/>
              </a:buClr>
              <a:buSzPct val="75000"/>
              <a:buFont typeface="Univer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Univers"/>
              </a:rPr>
              <a:t>Same process works for Oracle, Sybase, MySQL</a:t>
            </a:r>
            <a:endParaRPr b="0" lang="en-US" sz="2400" spc="-1" strike="noStrike">
              <a:solidFill>
                <a:srgbClr val="ffffff"/>
              </a:solidFill>
              <a:latin typeface="Univers"/>
            </a:endParaRPr>
          </a:p>
          <a:p>
            <a:pPr marL="339480" indent="-339480">
              <a:spcBef>
                <a:spcPts val="700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Univers"/>
              </a:rPr>
              <a:t>Free</a:t>
            </a: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746748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Univers"/>
              </a:rPr>
              <a:t>dbdoc</a:t>
            </a:r>
            <a:endParaRPr b="1" lang="en-US" sz="40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1143000"/>
            <a:ext cx="7848720" cy="20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 ' &gt;&gt; ${DBDOC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 ' &gt;&gt; ${DBDOC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End of dbdoc' &gt;&gt; ${DBDOC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MSG='DBDOC for '`hostname`':'${ORACLE_SID}' '`date +\%m\%d\%Y_\%T`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/usr/bin/mailx -s "${MSG}" ${NOTIFY_LIST} &lt; ${DBDOC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#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#end of dbdoc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#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746748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Univers"/>
              </a:rPr>
              <a:t>dbexport</a:t>
            </a:r>
            <a:endParaRPr b="1" lang="en-US" sz="40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7848720" cy="407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Univers"/>
              </a:rPr>
              <a:t>Full export of a single database</a:t>
            </a: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  <a:p>
            <a:pPr lvl="1" marL="971640" indent="-343080">
              <a:spcBef>
                <a:spcPts val="601"/>
              </a:spcBef>
              <a:buClr>
                <a:srgbClr val="ffffff"/>
              </a:buClr>
              <a:buSzPct val="75000"/>
              <a:buFont typeface="Univer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Univers"/>
              </a:rPr>
              <a:t>Compress export file</a:t>
            </a:r>
            <a:endParaRPr b="0" lang="en-US" sz="2400" spc="-1" strike="noStrike">
              <a:solidFill>
                <a:srgbClr val="ffffff"/>
              </a:solidFill>
              <a:latin typeface="Univers"/>
            </a:endParaRPr>
          </a:p>
          <a:p>
            <a:pPr lvl="1" marL="971640" indent="-343080">
              <a:spcBef>
                <a:spcPts val="601"/>
              </a:spcBef>
              <a:buClr>
                <a:srgbClr val="ffffff"/>
              </a:buClr>
              <a:buSzPct val="75000"/>
              <a:buFont typeface="Univer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Univers"/>
              </a:rPr>
              <a:t>If needed, export directly to compressed file through pipe</a:t>
            </a:r>
            <a:endParaRPr b="0" lang="en-US" sz="2400" spc="-1" strike="noStrike">
              <a:solidFill>
                <a:srgbClr val="ffffff"/>
              </a:solidFill>
              <a:latin typeface="Univers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Univers"/>
              </a:rPr>
              <a:t>Purge older export files</a:t>
            </a: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Univers"/>
              </a:rPr>
              <a:t>Why not cold/hot backups?</a:t>
            </a: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  <a:p>
            <a:pPr lvl="1" marL="971640" indent="-343080">
              <a:spcBef>
                <a:spcPts val="601"/>
              </a:spcBef>
              <a:buClr>
                <a:srgbClr val="ffffff"/>
              </a:buClr>
              <a:buSzPct val="75000"/>
              <a:buFont typeface="Univer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Univers"/>
              </a:rPr>
              <a:t>Development machines don’t have disk space for a single copy of each database</a:t>
            </a:r>
            <a:endParaRPr b="0" lang="en-US" sz="2400" spc="-1" strike="noStrike">
              <a:solidFill>
                <a:srgbClr val="ffffff"/>
              </a:solidFill>
              <a:latin typeface="Univers"/>
            </a:endParaRPr>
          </a:p>
          <a:p>
            <a:pPr lvl="1" marL="971640" indent="-343080">
              <a:spcBef>
                <a:spcPts val="601"/>
              </a:spcBef>
              <a:buClr>
                <a:srgbClr val="ffffff"/>
              </a:buClr>
              <a:buSzPct val="75000"/>
              <a:buFont typeface="Univer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Univers"/>
              </a:rPr>
              <a:t>Exports much smaller than full database</a:t>
            </a:r>
            <a:endParaRPr b="0" lang="en-US" sz="2400" spc="-1" strike="noStrike">
              <a:solidFill>
                <a:srgbClr val="ffffff"/>
              </a:solidFill>
              <a:latin typeface="Univer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746748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Univers"/>
              </a:rPr>
              <a:t>dbexport</a:t>
            </a:r>
            <a:endParaRPr b="1" lang="en-US" sz="40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143000"/>
            <a:ext cx="7848720" cy="51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#!/bin/sh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#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# This is dbexport -- script to create a full export of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# a database, the script exports normally, and then compresses th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# export file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#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# script sets all needed environment parameter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#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# script removes export files older than XX day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#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ORACLE_SID=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xport ORACLE_SID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ORACLE_OWNER=oracl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xport $ORACLE_OWN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ORACLE_HOME=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xport ORACLE_HOM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NOTIFY_LIST='&lt;email address&gt;'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xport NOTIFY_LIS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LD_LIBRARY_PATH=$ORACLE_HOME/lib:/usr/lib:/usr/openwin/lib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xport LD_LIBRARY_PATH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PATH=/bin:/usr/bin:/usr/ccs/bin:/usr/sbin:${ORACLE_HOME}/bin: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xport PATH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NLS_LANG=AMERICAN_AMERICA.US7ASCII, .WE8ISO8859P1, .UTF8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xport NLS_LAN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CSHRC_FILE=~/.cshrc_&lt;SI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xport CSHRC_FIL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LOGDIR=$ORACLE_HOME/admin/dbexport_lo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xport LOGDI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RETENTION_TIME_DAYS=&lt;number of days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xport RETENTION_TIME_DAY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746748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Univers"/>
              </a:rPr>
              <a:t>dbexport</a:t>
            </a:r>
            <a:endParaRPr b="1" lang="en-US" sz="40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127" name=""/>
          <p:cNvSpPr/>
          <p:nvPr/>
        </p:nvSpPr>
        <p:spPr>
          <a:xfrm>
            <a:off x="685800" y="1143000"/>
            <a:ext cx="7772400" cy="50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#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# EXPORT_LOG_TMP isn't needed for this script alone, but, since th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# export log file is written to disk while the export is made, if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# multiple export jobs are running, and they all use the same disk filename,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# one script may remove the export log file for the other script. We us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# the filename EXPORT_LOG_TMP so that on disk each script will have its ow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# export log file to prevent any other scripts removing it before the expor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# logfile is cat-ed to the overall export script lo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#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XPORT_LOG_TMP=${LOGDIR}/EXPORT_LOG_TMP_${ORACLE_SID}_`date +\%m\%d\%Y_\%T`.tmp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xport EXPORT_LOG_TMP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XPORT_PIPE=EXPORT_PIPE_${ORACLE_SID}_`date +\%m\%d\%Y_\%T`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xport EXPORT_PIP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XPORTDIR=$ORACLE_HOME/admin/dbexport_exp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xport EXPORTDI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DBEXPORT=${EXPORTDIR}/DBEXPORT_${ORACLE_SID}_`date +\%m\%d\%Y_\%T`.exp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xport DBEXPOR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DBEXPORT_COMPRESSED=${DBEXPORT}.Z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xport DBEXPORT_COMPRESSED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DBEXPORTLOG=${LOGDIR}/DBEXPORT_${ORACLE_SID}_`date +\%m\%d\%Y_\%T`.ou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xport DBEXPORTLO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This is output from TAO DBA script dbexport' &gt; ${DBEXPORT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 ' &gt;&gt; ${DBEXPORT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*****************************************' &gt;&gt; ${DBEXPORT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date' &gt;&gt; ${DBEXPORT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 ' &gt;&gt; ${DBEXPORT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date &gt;&gt; ${DBEXPORT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746748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Univers"/>
              </a:rPr>
              <a:t>dbexport</a:t>
            </a:r>
            <a:endParaRPr b="1" lang="en-US" sz="40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129" name=""/>
          <p:cNvSpPr/>
          <p:nvPr/>
        </p:nvSpPr>
        <p:spPr>
          <a:xfrm>
            <a:off x="685800" y="1143000"/>
            <a:ext cx="7848720" cy="48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#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# document shell script environment for dbexpor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#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 ' &gt;&gt; ${DBEXPORT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*****************************************' &gt;&gt; ${DBEXPORT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Document shell script environment for dbexport' &gt;&gt; ${DBEXPORT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*****************************************' &gt;&gt; ${DBEXPORT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 ' &gt;&gt; ${DBEXPORT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*****************************************' &gt;&gt; ${DBEXPORT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echo ${ORACLE_OWNER}' &gt;&gt; ${DBEXPORT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 ' &gt;&gt; ${DBEXPORT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${ORACLE_OWNER} &gt;&gt; ${DBEXPORT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${ORACLE_HOME} &gt;&gt; ${DBEXPORT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${DBEXPORTLOG} &gt;&gt; ${DBEXPORT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${ORACLE_SID} &gt;&gt; ${DBEXPORT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cat ${CSHRC_FILE} &gt;&gt; ${DBEXPORT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nv &gt;&gt; ${DBEXPORT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#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# document the server machin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#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 ' &gt;&gt; ${DBEXPORT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*****************************************' &gt;&gt; ${DBEXPORT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Document the server machine' &gt;&gt; ${DBEXPORT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*****************************************' &gt;&gt; ${DBEXPORT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746748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Univers"/>
              </a:rPr>
              <a:t>dbexport</a:t>
            </a:r>
            <a:endParaRPr b="1" lang="en-US" sz="40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131" name=""/>
          <p:cNvSpPr/>
          <p:nvPr/>
        </p:nvSpPr>
        <p:spPr>
          <a:xfrm>
            <a:off x="685800" y="1143000"/>
            <a:ext cx="7848720" cy="51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 ' &gt;&gt; ${DBEXPORT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*****************************************' &gt;&gt; ${DBEXPORT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hostname' &gt;&gt; ${DBEXPORT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 ' &gt;&gt; ${DBEXPORT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hostname &gt;&gt; ${DBEXPORT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df -k &gt;&gt; ${DBEXPORT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#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# change directory to where the export file will be created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#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cd ${EXPORTDIR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pwd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#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# default is export followed by compres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#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# if needed, export directly to pipe to use less disk spac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# uncomment the # lines below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#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 ' &gt;&gt; ${DBEXPORT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*****************************************' &gt;&gt; ${DBEXPORT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make full export...' &gt;&gt; ${DBEXPORT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# echo 'make full export to pipe...' &gt;&gt; ${DBEXPORT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#echo 'mknod /tmp/${EXPORT_PIPE} p' &gt;&gt; ${DBEXPORT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#echo 'compress &lt; /tmp/${EXPORT_PIPE} &gt; '${DBEXPORT_COMPRESSED}' &amp;' &gt;&gt; ${DBEXPORT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#echo '${ORACLE_HOME}/bin/exp / full=y consistent=y direct=y BUFFER=10240000 file=/tmp/${EXPORT_PIPE} log=${EXPORT_LOG_TMP}' &gt;&gt; ${DBEXPORT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${ORACLE_HOME}/bin/exp / full=y consistent=y direct=y BUFFER=10240000 file='${DBEXPORT}' log=${EXPORT_LOG_TMP}' &gt;&gt; ${DBEXPORT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746748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Univers"/>
              </a:rPr>
              <a:t>dbexport</a:t>
            </a:r>
            <a:endParaRPr b="1" lang="en-US" sz="40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133" name=""/>
          <p:cNvSpPr/>
          <p:nvPr/>
        </p:nvSpPr>
        <p:spPr>
          <a:xfrm>
            <a:off x="685800" y="1143000"/>
            <a:ext cx="7848720" cy="48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cat ${EXPORT_LOG_TMP}' &gt;&gt; ${DBEXPORT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rm ${EXPORT_LOG_TMP}' &gt;&gt; ${DBEXPORT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#echo 'rm /tmp/${EXPORT_PIPE}' &gt;&gt; ${DBEXPORT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 ' &gt;&gt; ${DBEXPORT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*****************************************' &gt;&gt; ${DBEXPORT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start time of export' &gt;&gt; ${DBEXPORT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 ' &gt;&gt; ${DBEXPORT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date &gt;&gt; ${DBEXPORT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#mknod /tmp/${EXPORT_PIPE} p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#compress &lt; /tmp/${EXPORT_PIPE} &gt; ${DBEXPORT_COMPRESSED} &amp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#${ORACLE_HOME}/bin/exp / full=y consistent=y direct=y BUFFER=10240000 file=/tmp/${EXPORT_PIPE} log=${EXPORT_LOG_TMP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${ORACLE_HOME}/bin/exp / full=y consistent=y direct=y BUFFER=10240000 file=${DBEXPORT} log=${EXPORT_LOG_TMP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cat ${EXPORT_LOG_TMP} &gt;&gt; ${DBEXPORT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rm ${EXPORT_LOG_TMP} &gt;&gt; ${DBEXPORT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#rm /tmp/${EXPORT_PIPE} &gt;&gt; ${DBEXPORT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date &gt;&gt; ${DBEXPORT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pwd &gt;&gt; ${DBEXPORT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df -k . &gt;&gt; ${DBEXPORT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${DBEXPORT} &gt;&gt; ${DBEXPORT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ls -l &gt;&gt; ${DBEXPORT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df -k &gt;&gt; ${DBEXPORT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#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# if exporting to pipe, no sense in compressing (again), skip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# all commands down to next 'if exporting to pipe' commen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#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746748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Univers"/>
              </a:rPr>
              <a:t>dbexport</a:t>
            </a:r>
            <a:endParaRPr b="1" lang="en-US" sz="40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135" name=""/>
          <p:cNvSpPr/>
          <p:nvPr/>
        </p:nvSpPr>
        <p:spPr>
          <a:xfrm>
            <a:off x="685800" y="1143000"/>
            <a:ext cx="7772400" cy="51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compress '${DBEXPORT} &gt;&gt; ${DBEXPORT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compress ${DBEXPORT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date &gt;&gt; ${DBEXPORT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pwd &gt;&gt; ${DBEXPORT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df -k . &gt;&gt; ${DBEXPORT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${DBEXPORT_COMPRESSED} &gt;&gt; ${DBEXPORT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ls -l &gt;&gt; ${DBEXPORT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df -k &gt;&gt; ${DBEXPORT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#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# if exporting to pipe -- end of commands to be commented ou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#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 ' &gt;&gt; ${DBEXPORT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*****************************************' &gt;&gt; ${DBEXPORT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Existing dbexport log files...' &gt;&gt; ${DBEXPORT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*****************************************' &gt;&gt; ${DBEXPORT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 ' &gt;&gt; ${DBEXPORT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current sysdate' &gt;&gt; ${DBEXPORT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date &gt;&gt; ${DBEXPORT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 ' &gt;&gt; ${DBEXPORT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cd ${LOGDIR} ' &gt;&gt; ${DBEXPORT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cd ${LOGDIR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pwd &gt;&gt; ${DBEXPORT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ls -l &gt;&gt; ${DBEXPORT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 ' &gt;&gt; ${DBEXPORT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*****************************************' &gt;&gt; ${DBEXPORT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Remove dbexport log files older than '${RETENTION_TIME_DAYS}' days' &gt;&gt; ${DBEXPORT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*****************************************' &gt;&gt; ${DBEXPORT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746748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Univers"/>
              </a:rPr>
              <a:t>dbexport</a:t>
            </a:r>
            <a:endParaRPr b="1" lang="en-US" sz="40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137" name=""/>
          <p:cNvSpPr/>
          <p:nvPr/>
        </p:nvSpPr>
        <p:spPr>
          <a:xfrm>
            <a:off x="685800" y="1143000"/>
            <a:ext cx="7772400" cy="51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/usr/bin/find . -name "DBEXPORT_${ORACLE_SID}_*.out" -ctime +${RETENTION_TIME_DAYS} -exec /bin/rm {} \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 ' &gt;&gt; ${DBEXPORT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pwd &gt;&gt; ${DBEXPORT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ls -l &gt;&gt; ${DBEXPORT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 ' &gt;&gt; ${DBEXPORT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*****************************************' &gt;&gt; ${DBEXPORT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Existing dbexport export files...' &gt;&gt; ${DBEXPORT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*****************************************' &gt;&gt; ${DBEXPORT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 ' &gt;&gt; ${DBEXPORT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current sysdate' &gt;&gt; ${DBEXPORT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date &gt;&gt; ${DBEXPORT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 ' &gt;&gt; ${DBEXPORT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cd ${EXPORTDIR}' &gt;&gt; ${DBEXPORT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cd ${EXPORTDIR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pwd &gt;&gt; ${DBEXPORT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ls -l &gt;&gt; ${DBEXPORT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 ' &gt;&gt; ${DBEXPORT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*****************************************' &gt;&gt; ${DBEXPORT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Remove dbexport export files older than '${RETENTION_TIME_DAYS}' days' &gt;&gt; ${DBEXPORT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*****************************************' &gt;&gt; ${DBEXPORT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/usr/bin/find . -name "DBEXPORT_${ORACLE_SID}_*.exp*" -ctime +${RETENTION_TIME_DAYS} -exec /bin/rm {} \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 ' &gt;&gt; ${DBEXPORT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pwd &gt;&gt; ${DBEXPORT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ls -l &gt;&gt; ${DBEXPORT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746748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Univers"/>
              </a:rPr>
              <a:t>dbexport</a:t>
            </a:r>
            <a:endParaRPr b="1" lang="en-US" sz="40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139" name=""/>
          <p:cNvSpPr/>
          <p:nvPr/>
        </p:nvSpPr>
        <p:spPr>
          <a:xfrm>
            <a:off x="685800" y="1143000"/>
            <a:ext cx="7772400" cy="184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 ' &gt;&gt; ${DBEXPORT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End of dbexport' &gt;&gt; ${DBEXPORT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MSG='DBEXPORT for '`hostname`':'${ORACLE_SID}' '`date +\%m\%d\%Y_\%T`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/usr/bin/mailx -s "${MSG}" ${NOTIFY_LIST} &lt; ${DBEXPORT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#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#end of dbexpor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#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746748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Univers"/>
              </a:rPr>
              <a:t>What Was Done</a:t>
            </a:r>
            <a:endParaRPr b="1" lang="en-US" sz="40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7848720" cy="407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Univers"/>
              </a:rPr>
              <a:t>Solution?</a:t>
            </a: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  <a:p>
            <a:pPr lvl="1" marL="971640" indent="-343080">
              <a:spcBef>
                <a:spcPts val="601"/>
              </a:spcBef>
              <a:buClr>
                <a:srgbClr val="ffffff"/>
              </a:buClr>
              <a:buSzPct val="75000"/>
              <a:buFont typeface="Univer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Univers"/>
              </a:rPr>
              <a:t>cron jobs</a:t>
            </a:r>
            <a:endParaRPr b="0" lang="en-US" sz="2400" spc="-1" strike="noStrike">
              <a:solidFill>
                <a:srgbClr val="ffffff"/>
              </a:solidFill>
              <a:latin typeface="Univers"/>
            </a:endParaRPr>
          </a:p>
          <a:p>
            <a:pPr lvl="2" marL="1371600" indent="-228600">
              <a:spcBef>
                <a:spcPts val="550"/>
              </a:spcBef>
              <a:buClr>
                <a:srgbClr val="ffffff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execute scripts</a:t>
            </a:r>
            <a:endParaRPr b="0" lang="en-US" sz="2200" spc="-1" strike="noStrike">
              <a:solidFill>
                <a:srgbClr val="ffffff"/>
              </a:solidFill>
              <a:latin typeface="Univers"/>
            </a:endParaRPr>
          </a:p>
          <a:p>
            <a:pPr lvl="1" marL="971640" indent="-343080">
              <a:spcBef>
                <a:spcPts val="601"/>
              </a:spcBef>
              <a:buClr>
                <a:srgbClr val="ffffff"/>
              </a:buClr>
              <a:buSzPct val="75000"/>
              <a:buFont typeface="Univer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Univers"/>
              </a:rPr>
              <a:t>Scripts to</a:t>
            </a:r>
            <a:endParaRPr b="0" lang="en-US" sz="2400" spc="-1" strike="noStrike">
              <a:solidFill>
                <a:srgbClr val="ffffff"/>
              </a:solidFill>
              <a:latin typeface="Univers"/>
            </a:endParaRPr>
          </a:p>
          <a:p>
            <a:pPr lvl="2" marL="1371600" indent="-228600">
              <a:spcBef>
                <a:spcPts val="550"/>
              </a:spcBef>
              <a:buClr>
                <a:srgbClr val="ffffff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monitor</a:t>
            </a:r>
            <a:endParaRPr b="0" lang="en-US" sz="2200" spc="-1" strike="noStrike">
              <a:solidFill>
                <a:srgbClr val="ffffff"/>
              </a:solidFill>
              <a:latin typeface="Univers"/>
            </a:endParaRPr>
          </a:p>
          <a:p>
            <a:pPr lvl="2" marL="1371600" indent="-228600">
              <a:spcBef>
                <a:spcPts val="550"/>
              </a:spcBef>
              <a:buClr>
                <a:srgbClr val="ffffff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backup</a:t>
            </a:r>
            <a:endParaRPr b="0" lang="en-US" sz="2200" spc="-1" strike="noStrike">
              <a:solidFill>
                <a:srgbClr val="ffffff"/>
              </a:solidFill>
              <a:latin typeface="Univers"/>
            </a:endParaRPr>
          </a:p>
          <a:p>
            <a:pPr lvl="2" marL="1371600" indent="-228600">
              <a:spcBef>
                <a:spcPts val="550"/>
              </a:spcBef>
              <a:buClr>
                <a:srgbClr val="ffffff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gather performance data</a:t>
            </a:r>
            <a:endParaRPr b="0" lang="en-US" sz="2200" spc="-1" strike="noStrike">
              <a:solidFill>
                <a:srgbClr val="ffffff"/>
              </a:solidFill>
              <a:latin typeface="Univers"/>
            </a:endParaRPr>
          </a:p>
          <a:p>
            <a:pPr lvl="2" marL="1371600" indent="-228600">
              <a:spcBef>
                <a:spcPts val="550"/>
              </a:spcBef>
              <a:buClr>
                <a:srgbClr val="ffffff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purge performance data</a:t>
            </a:r>
            <a:endParaRPr b="0" lang="en-US" sz="2200" spc="-1" strike="noStrike">
              <a:solidFill>
                <a:srgbClr val="ffffff"/>
              </a:solidFill>
              <a:latin typeface="Univers"/>
            </a:endParaRPr>
          </a:p>
          <a:p>
            <a:pPr lvl="1" marL="971640" indent="-343080">
              <a:spcBef>
                <a:spcPts val="601"/>
              </a:spcBef>
              <a:buClr>
                <a:srgbClr val="ffffff"/>
              </a:buClr>
              <a:buSzPct val="75000"/>
              <a:buFont typeface="Univer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Univers"/>
              </a:rPr>
              <a:t>Scripts output sent in email</a:t>
            </a:r>
            <a:endParaRPr b="0" lang="en-US" sz="2400" spc="-1" strike="noStrike">
              <a:solidFill>
                <a:srgbClr val="ffffff"/>
              </a:solidFill>
              <a:latin typeface="Univer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746748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Univers"/>
              </a:rPr>
              <a:t>dbsttspck</a:t>
            </a:r>
            <a:endParaRPr b="1" lang="en-US" sz="40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7848720" cy="407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Univers"/>
              </a:rPr>
              <a:t>Execute statspack.snap</a:t>
            </a: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Univers"/>
              </a:rPr>
              <a:t>Gathers db performance data</a:t>
            </a: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Univers"/>
              </a:rPr>
              <a:t>Doesn’t process any of the data</a:t>
            </a: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  <a:p>
            <a:pPr lvl="1" marL="971640" indent="-343080">
              <a:spcBef>
                <a:spcPts val="601"/>
              </a:spcBef>
              <a:buClr>
                <a:srgbClr val="ffffff"/>
              </a:buClr>
              <a:buSzPct val="75000"/>
              <a:buFont typeface="Univer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Univers"/>
              </a:rPr>
              <a:t>Doesn’t generate reports</a:t>
            </a:r>
            <a:endParaRPr b="0" lang="en-US" sz="2400" spc="-1" strike="noStrike">
              <a:solidFill>
                <a:srgbClr val="ffffff"/>
              </a:solidFill>
              <a:latin typeface="Univers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Univers"/>
              </a:rPr>
              <a:t>Doesn’t purge the older data</a:t>
            </a: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746748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Univers"/>
              </a:rPr>
              <a:t>dbsttspck</a:t>
            </a:r>
            <a:endParaRPr b="1" lang="en-US" sz="40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143" name=""/>
          <p:cNvSpPr/>
          <p:nvPr/>
        </p:nvSpPr>
        <p:spPr>
          <a:xfrm>
            <a:off x="685800" y="1143000"/>
            <a:ext cx="7772400" cy="45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#!/bin/sh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#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# This is dbsttspck -- script to execute STATSPACK snapshot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#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# setup environment parameters for the scrip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ORACLE_SID=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xport ORACLE_SID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ORACLE_OWNER=oracl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xport $ORACLE_OWN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ORACLE_HOME=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xport ORACLE_HOM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LD_LIBRARY_PATH=$ORACLE_HOME/lib:/usr/lib:/usr/openwin/lib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xport LD_LIBRARY_PATH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PATH=/bin:/usr/bin:/usr/ccs/bin:/usr/sbin:${ORACLE_HOME}/bin: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xport PATH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$ORACLE_HOME/bin/sqlplus perfstat/perfstat &lt;&lt; EOF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xecute statspack.snap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OF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#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#end of dbsttspck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#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746748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Univers"/>
              </a:rPr>
              <a:t>dbsttspck_rm</a:t>
            </a:r>
            <a:endParaRPr b="1" lang="en-US" sz="40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7848720" cy="407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Univers"/>
              </a:rPr>
              <a:t>Exports existing STATSPACK data</a:t>
            </a: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  <a:p>
            <a:pPr lvl="1" marL="971640" indent="-343080">
              <a:spcBef>
                <a:spcPts val="601"/>
              </a:spcBef>
              <a:buClr>
                <a:srgbClr val="ffffff"/>
              </a:buClr>
              <a:buSzPct val="75000"/>
              <a:buFont typeface="Univer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Univers"/>
              </a:rPr>
              <a:t>Exports PERFSTAT schema</a:t>
            </a:r>
            <a:endParaRPr b="0" lang="en-US" sz="2400" spc="-1" strike="noStrike">
              <a:solidFill>
                <a:srgbClr val="ffffff"/>
              </a:solidFill>
              <a:latin typeface="Univers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Univers"/>
              </a:rPr>
              <a:t>Documents existing snapshots</a:t>
            </a: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Univers"/>
              </a:rPr>
              <a:t>Determines which snapshots are older than retention interval</a:t>
            </a: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Univers"/>
              </a:rPr>
              <a:t>Purges old data</a:t>
            </a: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  <a:p>
            <a:pPr lvl="1" marL="971640" indent="-343080">
              <a:spcBef>
                <a:spcPts val="601"/>
              </a:spcBef>
              <a:buClr>
                <a:srgbClr val="ffffff"/>
              </a:buClr>
              <a:buSzPct val="75000"/>
              <a:buFont typeface="Univer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Univers"/>
              </a:rPr>
              <a:t>Executes sppurge.sql</a:t>
            </a:r>
            <a:endParaRPr b="0" lang="en-US" sz="2400" spc="-1" strike="noStrike">
              <a:solidFill>
                <a:srgbClr val="ffffff"/>
              </a:solidFill>
              <a:latin typeface="Univers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Univers"/>
              </a:rPr>
              <a:t>Doesn’t purge SQL text</a:t>
            </a: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746748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Univers"/>
              </a:rPr>
              <a:t>dbsttspck_rm</a:t>
            </a:r>
            <a:endParaRPr b="1" lang="en-US" sz="40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1143000"/>
            <a:ext cx="7848720" cy="56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#!/bin/sh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#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# This is dbsttspck_rm -- script to remove STATSPACK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# table data older than a specified number of day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#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# each time this script runs, it exports the PERFSTA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# user schmea, then determines the snap_id values fo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# the range of snapshot data to be removed, write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# a file that contains the commands needed to execut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# sppurge and then executes that fil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#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# script removes export files older than XX day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#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ORACLE_SID=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xport ORACLE_SID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ORACLE_OWNER=oracl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xport $ORACLE_OWN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ORACLE_HOME=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xport ORACLE_HOM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NOTIFY_LIST='&lt;email address&gt;'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xport NOTIFY_LIS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LD_LIBRARY_PATH=$ORACLE_HOME/lib:/usr/lib:/usr/openwin/lib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xport LD_LIBRARY_PATH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PATH=/bin:/usr/bin:/usr/ccs/bin:/usr/sbin:${ORACLE_HOME}/bin: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xport PATH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NLS_LANG=AMERICAN_AMERICA.US7ASCII, .WE8ISO8859P1, .UTF8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xport NLS_LAN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CSHRC_FILE=~/.cshrc_&lt;SI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xport CSHRC_FIL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LOGDIR=$ORACLE_HOME/admin/dbsttspck_rm_lo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xport LOGDI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RETENTION_TIME_DAYS=&lt;number of days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xport RETENTION_TIME_DAY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746748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Univers"/>
              </a:rPr>
              <a:t>dbsttspck_rm</a:t>
            </a:r>
            <a:endParaRPr b="1" lang="en-US" sz="40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149" name=""/>
          <p:cNvSpPr/>
          <p:nvPr/>
        </p:nvSpPr>
        <p:spPr>
          <a:xfrm>
            <a:off x="685800" y="1143000"/>
            <a:ext cx="7848720" cy="50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#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# EXPORT_LOG_TMP isn't needed for this script alone, but, since th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# export log file is written to disk while the export is made, if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# multiple export jobs are running, and they all use the same disk filename,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# one script may remove the export log file for the other script. We us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# the filename EXPORT_LOG_TMP so that on disk each script will have its ow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# export log file to prevent any other scripts removing it before the expor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# logfile is cat-ed to the overall export script lo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#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XPORT_LOG_TMP=${LOGDIR}/EXPORT_LOG_TMP_${ORACLE_SID}_`date +\%m\%d\%Y_\%T`.tmp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xport EXPORT_LOG_TMP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XPORT_PIPE=EXPORT_PIPE_${ORACLE_SID}_`date +\%m\%d\%Y_\%T`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xport EXPORT_PIP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XPORTDIR=$ORACLE_HOME/admin/dbsttspck_rm_exp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xport EXPORTDI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SQLPLUS_TMP=${LOGDIR}/SQLPLUS_TMP_${ORACLE_SID}_`date +\%m\%d\%Y_\%T`.tmp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xport SQLPLUS_TMP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#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# setup .sql file that will compute min, max, trunc_snap_id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#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set pagesize 0' &gt; ${SQLPLUS_TMP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set feedback off' &gt;&gt; ${SQLPLUS_TMP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set heading off' &gt;&gt; ${SQLPLUS_TMP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select trim(min(snap_id)) from stats$snapshot;' &gt;&gt; ${SQLPLUS_TMP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exit' &gt;&gt; ${SQLPLUS_TMP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MIN_SNAPID=`sqlplus -s perfstat/perfstat @${SQLPLUS_TMP}`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746748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Univers"/>
              </a:rPr>
              <a:t>dbsttspck_rm</a:t>
            </a:r>
            <a:endParaRPr b="1" lang="en-US" sz="40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151" name=""/>
          <p:cNvSpPr/>
          <p:nvPr/>
        </p:nvSpPr>
        <p:spPr>
          <a:xfrm>
            <a:off x="685800" y="1143000"/>
            <a:ext cx="7848720" cy="550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set pagesize 0' &gt; ${SQLPLUS_TMP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set feedback off' &gt;&gt; ${SQLPLUS_TMP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set heading off' &gt;&gt; ${SQLPLUS_TMP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select trim(max(snap_id)) from stats$snapshot;' &gt;&gt; ${SQLPLUS_TMP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exit' &gt;&gt; ${SQLPLUS_TMP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MAX_SNAPID=`sqlplus -s perfstat/perfstat @${SQLPLUS_TMP}`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set pagesize 0' &gt; ${SQLPLUS_TMP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set feedback off' &gt;&gt; ${SQLPLUS_TMP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set heading off' &gt;&gt; ${SQLPLUS_TMP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select trim(max(snap_id)) from stats$snapshot where snap_time &lt; sysdate-'${RETENTION_TIME_DAYS}';' &gt;&gt; ${SQLPLUS_TMP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exit' &gt;&gt; ${SQLPLUS_TMP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TRUNC_SNAPID=`sqlplus -s perfstat/perfstat @${SQLPLUS_TMP}`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rm ${SQLPLUS_TMP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DBSTTSPCK_RM=${EXPORTDIR}/DBSTTSPCK_RM_${ORACLE_SID}_${MIN_SNAPID}_${MAX_SNAPID}_`date +\%m\%d\%Y_\%T`.exp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xport DBSTTSPCK_R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DBSTTSPCK_RM_COMPRESSED=${DBSTTSPCK_RM}.Z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xport DBSTTSPCK_RM_COMPRESSED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DBSTTSPCK_RM_LOG=${LOGDIR}/DBSTTSPCK_RM_${ORACLE_SID}_`date +\%m\%d\%Y_\%T`.ou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xport DBEXPORTLO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This is output from TAO DBA script dbsttspck_rm' &gt; ${DBSTTSPCK_RM_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 ' &gt;&gt; ${DBSTTSPCK_RM_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*****************************************' &gt;&gt; ${DBSTTSPCK_RM_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date' &gt;&gt; ${DBSTTSPCK_RM_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 ' &gt;&gt; ${DBSTTSPCK_RM_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date &gt;&gt; ${DBSTTSPCK_RM_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746748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Univers"/>
              </a:rPr>
              <a:t>dbsttspck_rm</a:t>
            </a:r>
            <a:endParaRPr b="1" lang="en-US" sz="40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" y="1143000"/>
            <a:ext cx="7848720" cy="51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 ' &gt;&gt; ${DBSTTSPCK_RM_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*****************************************' &gt;&gt; ${DBSTTSPCK_RM_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Values for this run of dbsttspck_rm' &gt;&gt; ${DBSTTSPCK_RM_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*****************************************' &gt;&gt; ${DBSTTSPCK_RM_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 ' &gt;&gt; ${DBSTTSPCK_RM_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value of MIN_SNAPID' &gt;&gt; ${DBSTTSPCK_RM_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${MIN_SNAPID} &gt;&gt; ${DBSTTSPCK_RM_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 ' &gt;&gt; ${DBSTTSPCK_RM_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value of MAX_SNAPID' &gt;&gt; ${DBSTTSPCK_RM_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${MAX_SNAPID} &gt;&gt; ${DBSTTSPCK_RM_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 ' &gt;&gt; ${DBSTTSPCK_RM_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value of TRUNC_SNAPID' &gt;&gt; ${DBSTTSPCK_RM_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${TRUNC_SNAPID} &gt;&gt; ${DBSTTSPCK_RM_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 ' &gt;&gt; ${DBSTTSPCK_RM_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value of RETENTION_TIME_DAYS' &gt;&gt; ${DBSTTSPCK_RM_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${RETENTION_TIME_DAYS} &gt;&gt; ${DBSTTSPCK_RM_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#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# document shell script environment for dbsttspck_r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#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 ' &gt;&gt; ${DBSTTSPCK_RM_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*****************************************' &gt;&gt; ${DBSTTSPCK_RM_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Document shell script environment for dbsttspck_rm' &gt;&gt; ${DBSTTSPCK_RM_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*****************************************' &gt;&gt; ${DBSTTSPCK_RM_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 ' &gt;&gt; ${DBSTTSPCK_RM_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*****************************************' &gt;&gt; ${DBSTTSPCK_RM_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echo ${ORACLE_OWNER}' &gt;&gt; ${DBSTTSPCK_RM_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 ' &gt;&gt; ${DBSTTSPCK_RM_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${ORACLE_OWNER} &gt;&gt; ${DBSTTSPCK_RM_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746748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Univers"/>
              </a:rPr>
              <a:t>dbsttspck_rm</a:t>
            </a:r>
            <a:endParaRPr b="1" lang="en-US" sz="40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155" name=""/>
          <p:cNvSpPr/>
          <p:nvPr/>
        </p:nvSpPr>
        <p:spPr>
          <a:xfrm>
            <a:off x="685800" y="1143000"/>
            <a:ext cx="7848720" cy="56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${ORACLE_HOME} &gt;&gt; ${DBSTTSPCK_RM_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${DBSTTSPCK_RM_LOG} &gt;&gt; ${DBSTTSPCK_RM_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${ORACLE_SID} &gt;&gt; ${DBSTTSPCK_RM_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cat ${CSHRC_FILE} &gt;&gt; ${DBSTTSPCK_RM_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nv &gt;&gt; ${DBSTTSPCK_RM_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#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# document the server machin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#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 ' &gt;&gt; ${DBSTTSPCK_RM_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*****************************************' &gt;&gt; ${DBSTTSPCK_RM_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Document the server machine' &gt;&gt; ${DBSTTSPCK_RM_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*****************************************' &gt;&gt; ${DBSTTSPCK_RM_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 ' &gt;&gt; ${DBSTTSPCK_RM_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*****************************************' &gt;&gt; ${DBSTTSPCK_RM_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hostname' &gt;&gt; ${DBSTTSPCK_RM_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 ' &gt;&gt; ${DBSTTSPCK_RM_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hostname &gt;&gt; ${DBSTTSPCK_RM_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df -k &gt;&gt; ${DBSTTSPCK_RM_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#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# change directory to where the export file will be created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#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cd ${EXPORTDIR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#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# default is export followed by compres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#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# if needed, export directly to pipe to use less disk spac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# uncomment the # lines below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#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746748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Univers"/>
              </a:rPr>
              <a:t>dbsttspck_rm</a:t>
            </a:r>
            <a:endParaRPr b="1" lang="en-US" sz="40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157" name=""/>
          <p:cNvSpPr/>
          <p:nvPr/>
        </p:nvSpPr>
        <p:spPr>
          <a:xfrm>
            <a:off x="685800" y="1143000"/>
            <a:ext cx="7848720" cy="48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 ' &gt;&gt; ${DBSTTSPCK_RM_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*****************************************' &gt;&gt; ${DBSTTSPCK_RM_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export PERFSTAT schema...' &gt;&gt; ${DBSTTSPCK_RM_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# echo 'export PERFSTAT schema to pipe...' &gt;&gt; ${DBSTTSPCK_RM_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 ' &gt;&gt; ${DBSTTSPCK_RM_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#echo 'mknod /tmp/${EXPORT_PIPE} p' &gt;&gt; ${DBSTTSPCK_RM_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#echo 'compress &lt; /tmp/${EXPORT_PIPE} &gt; '${DBSTTSPCK_RM_COMPRESSED}' &amp;' &gt;&gt; ${DBSTTSPCK_RM_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#echo '${ORACLE_HOME}/bin/exp perfstat/perfstat owner=PERFSTAT file=/tmp/${EXPORT_PIPE} log=${EXPORT_LOG_TMP}' &gt;&gt; ${DBSTTSPCK_RM_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${ORACLE_HOME}/bin/exp perfstat/perfstat owner=PERFSTAT file='${DBSTTSPCK_RM}' log=${EXPORT_LOG_TMP}' &gt;&gt; ${DBSTTSPCK_RM_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cat ${EXPORT_LOG_TMP}' &gt;&gt; ${DBSTTSPCK_RM_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rm ${EXPORT_LOG_TMP}' &gt;&gt; ${DBSTTSPCK_RM_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#echo 'rm /tmp/${EXPORT_PIPE}' &gt;&gt; ${DBSTTSPCK_RM_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 ' &gt;&gt; ${DBSTTSPCK_RM_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*****************************************' &gt;&gt; ${DBSTTSPCK_RM_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start time of export' &gt;&gt; ${DBSTTSPCK_RM_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 ' &gt;&gt; ${DBSTTSPCK_RM_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date &gt;&gt; ${DBSTTSPCK_RM_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#mknod /tmp/${EXPORT_PIPE} p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#compress &lt; /tmp/${EXPORT_PIPE} &gt; ${DBSTTSPCK_RM_COMPRESSED} &amp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#${ORACLE_HOME}/bin/exp perfstat/perfstat owner=PERFSTAT file=/tmp/${EXPORT_PIPE} log=${EXPORT_LOG_TMP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${ORACLE_HOME}/bin/exp perfstat/perfstat owner=PERFSTAT file=${DBSTTSPCK_RM} log=${EXPORT_LOG_TMP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cat ${EXPORT_LOG_TMP} &gt;&gt; ${DBSTTSPCK_RM_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rm ${EXPORT_LOG_TMP} &gt;&gt; ${DBSTTSPCK_RM_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#rm /tmp/${EXPORT_PIPE} &gt;&gt; ${DBSTTSPCK_RM_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746748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Univers"/>
              </a:rPr>
              <a:t>dbsttspck_rm</a:t>
            </a:r>
            <a:endParaRPr b="1" lang="en-US" sz="40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159" name=""/>
          <p:cNvSpPr/>
          <p:nvPr/>
        </p:nvSpPr>
        <p:spPr>
          <a:xfrm>
            <a:off x="685800" y="1143000"/>
            <a:ext cx="7848720" cy="550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 ' &gt;&gt; ${DBSTTSPCK_RM_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*****************************************' &gt;&gt; ${DBSTTSPCK_RM_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end time of export' &gt;&gt; ${DBSTTSPCK_RM_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 ' &gt;&gt; ${DBSTTSPCK_RM_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date &gt;&gt; ${DBSTTSPCK_RM_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pwd &gt;&gt; ${DBSTTSPCK_RM_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df -k . &gt;&gt; ${DBSTTSPCK_RM_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${DBSTTSPCK_RM} &gt;&gt; ${DBSTTSPCK_RM_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ls -l &gt;&gt; ${DBSTTSPCK_RM_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df -k &gt;&gt; ${DBSTTSPCK_RM_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#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# if exporting to pipe, no sense in compressing (again), skip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# all commands down to next 'if exporting to pipe' commen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# this means you need to comment out all the lines down to th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# 'if exporting to pipe' commen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#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 ' &gt;&gt; ${DBSTTSPCK_RM_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*****************************************' &gt;&gt; ${DBSTTSPCK_RM_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compress export file...' &gt;&gt; ${DBSTTSPCK_RM_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 ' &gt;&gt; ${DBSTTSPCK_RM_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compress '${DBSTTSPCK_RM} &gt;&gt; ${DBSTTSPCK_RM_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compress ${DBSTTSPCK_RM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 ' &gt;&gt; ${DBSTTSPCK_RM_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*****************************************' &gt;&gt; ${DBSTTSPCK_RM_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end time of compression' &gt;&gt; ${DBSTTSPCK_RM_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 ' &gt;&gt; ${DBSTTSPCK_RM_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date &gt;&gt; ${DBSTTSPCK_RM_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746748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Univers"/>
              </a:rPr>
              <a:t>Requirements Satisfied</a:t>
            </a:r>
            <a:endParaRPr b="1" lang="en-US" sz="40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7848720" cy="407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Univers"/>
              </a:rPr>
              <a:t>Support multiple databases</a:t>
            </a: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  <a:p>
            <a:pPr lvl="1" marL="971640" indent="-343080">
              <a:spcBef>
                <a:spcPts val="601"/>
              </a:spcBef>
              <a:buClr>
                <a:srgbClr val="ffffff"/>
              </a:buClr>
              <a:buSzPct val="75000"/>
              <a:buFont typeface="Univer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Univers"/>
              </a:rPr>
              <a:t>Add new database machine</a:t>
            </a:r>
            <a:endParaRPr b="0" lang="en-US" sz="2400" spc="-1" strike="noStrike">
              <a:solidFill>
                <a:srgbClr val="ffffff"/>
              </a:solidFill>
              <a:latin typeface="Univers"/>
            </a:endParaRPr>
          </a:p>
          <a:p>
            <a:pPr lvl="2" marL="1371600" indent="-228600">
              <a:spcBef>
                <a:spcPts val="550"/>
              </a:spcBef>
              <a:buClr>
                <a:srgbClr val="ffffff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email</a:t>
            </a:r>
            <a:endParaRPr b="0" lang="en-US" sz="2200" spc="-1" strike="noStrike">
              <a:solidFill>
                <a:srgbClr val="ffffff"/>
              </a:solidFill>
              <a:latin typeface="Univers"/>
            </a:endParaRPr>
          </a:p>
          <a:p>
            <a:pPr lvl="2" marL="1371600" indent="-228600">
              <a:spcBef>
                <a:spcPts val="550"/>
              </a:spcBef>
              <a:buClr>
                <a:srgbClr val="ffffff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cron (UNIX)</a:t>
            </a:r>
            <a:endParaRPr b="0" lang="en-US" sz="2200" spc="-1" strike="noStrike">
              <a:solidFill>
                <a:srgbClr val="ffffff"/>
              </a:solidFill>
              <a:latin typeface="Univers"/>
            </a:endParaRPr>
          </a:p>
          <a:p>
            <a:pPr lvl="1" marL="971640" indent="-343080">
              <a:spcBef>
                <a:spcPts val="601"/>
              </a:spcBef>
              <a:buClr>
                <a:srgbClr val="ffffff"/>
              </a:buClr>
              <a:buSzPct val="75000"/>
              <a:buFont typeface="Univer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Univers"/>
              </a:rPr>
              <a:t>Add new database</a:t>
            </a:r>
            <a:endParaRPr b="0" lang="en-US" sz="2400" spc="-1" strike="noStrike">
              <a:solidFill>
                <a:srgbClr val="ffffff"/>
              </a:solidFill>
              <a:latin typeface="Univers"/>
            </a:endParaRPr>
          </a:p>
          <a:p>
            <a:pPr lvl="2" marL="1371600" indent="-228600">
              <a:spcBef>
                <a:spcPts val="550"/>
              </a:spcBef>
              <a:buClr>
                <a:srgbClr val="ffffff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install cron scripts</a:t>
            </a:r>
            <a:endParaRPr b="0" lang="en-US" sz="2200" spc="-1" strike="noStrike">
              <a:solidFill>
                <a:srgbClr val="ffffff"/>
              </a:solidFill>
              <a:latin typeface="Univers"/>
            </a:endParaRPr>
          </a:p>
          <a:p>
            <a:pPr lvl="1" marL="971640" indent="-343080">
              <a:spcBef>
                <a:spcPts val="601"/>
              </a:spcBef>
              <a:buClr>
                <a:srgbClr val="ffffff"/>
              </a:buClr>
              <a:buSzPct val="75000"/>
              <a:buFont typeface="Univer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Univers"/>
              </a:rPr>
              <a:t>Drop database</a:t>
            </a:r>
            <a:endParaRPr b="0" lang="en-US" sz="2400" spc="-1" strike="noStrike">
              <a:solidFill>
                <a:srgbClr val="ffffff"/>
              </a:solidFill>
              <a:latin typeface="Univers"/>
            </a:endParaRPr>
          </a:p>
          <a:p>
            <a:pPr lvl="2" marL="1371600" indent="-228600">
              <a:spcBef>
                <a:spcPts val="550"/>
              </a:spcBef>
              <a:buClr>
                <a:srgbClr val="ffffff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remove cron scripts</a:t>
            </a:r>
            <a:endParaRPr b="0" lang="en-US" sz="2200" spc="-1" strike="noStrike">
              <a:solidFill>
                <a:srgbClr val="ffffff"/>
              </a:solidFill>
              <a:latin typeface="Univer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746748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Univers"/>
              </a:rPr>
              <a:t>dbsttspck_rm</a:t>
            </a:r>
            <a:endParaRPr b="1" lang="en-US" sz="40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143000"/>
            <a:ext cx="7848720" cy="51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pwd &gt;&gt; ${DBSTTSPCK_RM_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df -k . &gt;&gt; ${DBSTTSPCK_RM_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${DBSTTSPCK_RM_COMPRESSED} &gt;&gt; ${DBSTTSPCK_RM_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ls -l &gt;&gt; ${DBSTTSPCK_RM_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df -k &gt;&gt; ${DBSTTSPCK_RM_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#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# if exporting to pipe -- end of commands to be commented ou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#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#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# output info on existing snapshot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#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 ' &gt;&gt; ${DBSTTSPCK_RM_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*****************************************' &gt;&gt; ${DBSTTSPCK_RM_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Existing snapshots' &gt;&gt; ${DBSTTSPCK_RM_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*****************************************' &gt;&gt; ${DBSTTSPCK_RM_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${ORACLE_HOME}/bin/sqlplus perfstat/perfstat &lt;&lt; EOF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set termout off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set echo 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spool ${SQLPLUS_TMP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select to_char(sysdate,' dd Mon YYYY HH24:mi:ss') from dual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select min(snap_id) from stats\$snapsho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select max(snap_id) from stats\$snapsho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select max(snap_id) from stats\$snapshot where snap_time &lt; sysdate-${RETENTION_TIME_DAYS}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select name, snap_id, to_char(snap_time,' dd Mon YYYY HH24:mi:ss')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from stats\$snapshot, v\$database order by snap_id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xi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OF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746748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Univers"/>
              </a:rPr>
              <a:t>dbsttspck_rm</a:t>
            </a:r>
            <a:endParaRPr b="1" lang="en-US" sz="40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163" name=""/>
          <p:cNvSpPr/>
          <p:nvPr/>
        </p:nvSpPr>
        <p:spPr>
          <a:xfrm>
            <a:off x="685800" y="1143000"/>
            <a:ext cx="7772400" cy="53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 ' &gt;&gt; ${DBSTTSPCK_RM_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cat ${SQLPLUS_TMP} &gt;&gt; ${DBSTTSPCK_RM_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rm ${SQLPLUS_TMP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#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# test to see if truncation is needed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# if ${TRUNC_SNAPID} is not the null string, return true (0)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# if ${TRUNC_SNAPID} is null, that means there aren't any snapshots tha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# are older than ${RETENTION_TIME_DAYS} and we don't want to execute sppurg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#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if test ${TRUNC_SNAPID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the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 ' &gt;&gt; ${DBSTTSPCK_RM_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*****************' &gt;&gt; ${DBSTTSPCK_RM_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Truncation Needed' &gt;&gt; ${DBSTTSPCK_RM_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*****************' &gt;&gt; ${DBSTTSPCK_RM_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#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# truncate existing snapshot data to remove snapshots older than ${RETENTION_TIME_DAYS} day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#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${ORACLE_HOME}/bin/sqlplus perfstat/perfstat &lt;&lt; EOF' &gt; ${SQLPLUS_TMP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@${ORACLE_HOME}/rdbms/admin/sppurge.sql' &gt;&gt; ${SQLPLUS_TMP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${MIN_SNAPID} &gt;&gt; ${SQLPLUS_TMP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${TRUNC_SNAPID} &gt;&gt; ${SQLPLUS_TMP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commit;' &gt;&gt; ${SQLPLUS_TMP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EOF' &gt;&gt; ${SQLPLUS_TMP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chmod 744 ${SQLPLUS_TMP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746748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Univers"/>
              </a:rPr>
              <a:t>dbsttspck_rm</a:t>
            </a:r>
            <a:endParaRPr b="1" lang="en-US" sz="40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165" name=""/>
          <p:cNvSpPr/>
          <p:nvPr/>
        </p:nvSpPr>
        <p:spPr>
          <a:xfrm>
            <a:off x="685800" y="1143000"/>
            <a:ext cx="7772400" cy="53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 ' &gt;&gt; ${DBSTTSPCK_RM_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*****************************************' &gt;&gt; ${DBSTTSPCK_RM_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Purge existing STATSPACK data older than '${RETENTION_TIME_DAYS}' days' &gt;&gt; ${DBSTTSPCK_RM_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*****************************************' &gt;&gt; ${DBSTTSPCK_RM_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 ' &gt;&gt; ${DBSTTSPCK_RM_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SQL script to be executed to execute sppurge' &gt;&gt; ${DBSTTSPCK_RM_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 ' &gt;&gt; ${DBSTTSPCK_RM_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cat ${SQLPLUS_TMP} &gt;&gt; ${DBSTTSPCK_RM_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 ' &gt;&gt; ${DBSTTSPCK_RM_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*********************' &gt;&gt; ${DBSTTSPCK_RM_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start time of sppurge' &gt;&gt; ${DBSTTSPCK_RM_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 ' &gt;&gt; ${DBSTTSPCK_RM_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date &gt;&gt; ${DBSTTSPCK_RM_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${SQLPLUS_TMP} &gt;&gt; ${DBSTTSPCK_RM_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 ' &gt;&gt; ${DBSTTSPCK_RM_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*******************' &gt;&gt; ${DBSTTSPCK_RM_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end time of sppurge' &gt;&gt; ${DBSTTSPCK_RM_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 ' &gt;&gt; ${DBSTTSPCK_RM_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date &gt;&gt; ${DBSTTSPCK_RM_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rm ${SQLPLUS_TMP} &gt;&gt; ${DBSTTSPCK_RM_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#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# not truncating snapshot data..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#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ls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746748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Univers"/>
              </a:rPr>
              <a:t>dbsttspck_rm</a:t>
            </a:r>
            <a:endParaRPr b="1" lang="en-US" sz="40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1143000"/>
            <a:ext cx="7619760" cy="53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 ' &gt;&gt; ${DBSTTSPCK_RM_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***************************************************' &gt;&gt; ${DBSTTSPCK_RM_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No Truncation Needed -- TRUNC_SNAPID does not exist' &gt;&gt; ${DBSTTSPCK_RM_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***************************************************' &gt;&gt; ${DBSTTSPCK_RM_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fi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#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# end of if then block for truncating snapshot dat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#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#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# output info on remaining snapshot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#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 ' &gt;&gt; ${DBSTTSPCK_RM_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*****************************************' &gt;&gt; ${DBSTTSPCK_RM_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Remaining snapshots' &gt;&gt; ${DBSTTSPCK_RM_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*****************************************' &gt;&gt; ${DBSTTSPCK_RM_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${ORACLE_HOME}/bin/sqlplus perfstat/perfstat &lt;&lt; EOF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set termout off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set echo 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spool ${SQLPLUS_TMP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select to_char(sysdate,' dd Mon YYYY HH24:mi:ss') from dual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select min(snap_id) from stats\$snapsho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select max(snap_id) from stats\$snapsho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xi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OF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 ' &gt;&gt; ${DBSTTSPCK_RM_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cat ${SQLPLUS_TMP} &gt;&gt; ${DBSTTSPCK_RM_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746748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Univers"/>
              </a:rPr>
              <a:t>dbsttspck_rm</a:t>
            </a:r>
            <a:endParaRPr b="1" lang="en-US" sz="40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169" name=""/>
          <p:cNvSpPr/>
          <p:nvPr/>
        </p:nvSpPr>
        <p:spPr>
          <a:xfrm>
            <a:off x="685800" y="1066680"/>
            <a:ext cx="7848720" cy="50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rm ${SQLPLUS_TMP} &gt;&gt; ${DBSTTSPCK_RM_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#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# remove old log and export file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#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 ' &gt;&gt; ${DBSTTSPCK_RM_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*****************************************' &gt;&gt; ${DBSTTSPCK_RM_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Existing dbsttspck_rm log files...' &gt;&gt; ${DBSTTSPCK_RM_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*****************************************' &gt;&gt; ${DBSTTSPCK_RM_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 ' &gt;&gt; ${DBSTTSPCK_RM_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current sysdate' &gt;&gt; ${DBSTTSPCK_RM_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date &gt;&gt; ${DBSTTSPCK_RM_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 ' &gt;&gt; ${DBSTTSPCK_RM_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cd ${LOGDIR} ' &gt;&gt; ${DBSTTSPCK_RM_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cd ${LOGDIR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pwd &gt;&gt; ${DBSTTSPCK_RM_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ls -l &gt;&gt; ${DBSTTSPCK_RM_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 ' &gt;&gt; ${DBSTTSPCK_RM_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*****************************************' &gt;&gt; ${DBSTTSPCK_RM_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Remove dbsttspck_rm log files older than '${RETENTION_TIME_DAYS}' days' &gt;&gt; ${DBSTTSPCK_RM_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*****************************************' &gt;&gt; ${DBSTTSPCK_RM_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/usr/bin/find . -name "DBSTTSPCK_RM_${ORACLE_SID}_*.out" -ctime +${RETENTION_TIME_DAYS} -exec /bin/rm {} \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 ' &gt;&gt; ${DBSTTSPCK_RM_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pwd &gt;&gt; ${DBSTTSPCK_RM_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ls -l &gt;&gt; ${DBSTTSPCK_RM_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746748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Univers"/>
              </a:rPr>
              <a:t>dbsttspck_rm</a:t>
            </a:r>
            <a:endParaRPr b="1" lang="en-US" sz="40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1143000"/>
            <a:ext cx="7772400" cy="580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 ' &gt;&gt; ${DBSTTSPCK_RM_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*****************************************' &gt;&gt; ${DBSTTSPCK_RM_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Existing dbsttspck_rm export files...' &gt;&gt; ${DBSTTSPCK_RM_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*****************************************' &gt;&gt; ${DBSTTSPCK_RM_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 ' &gt;&gt; ${DBSTTSPCK_RM_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current sysdate' &gt;&gt; ${DBSTTSPCK_RM_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date &gt;&gt; ${DBSTTSPCK_RM_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 ' &gt;&gt; ${DBSTTSPCK_RM_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cd ${EXPORTDIR}' &gt;&gt; ${DBSTTSPCK_RM_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cd ${EXPORTDIR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pwd &gt;&gt; ${DBSTTSPCK_RM_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ls -l &gt;&gt; ${DBSTTSPCK_RM_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 ' &gt;&gt; ${DBSTTSPCK_RM_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*****************************************' &gt;&gt; ${DBSTTSPCK_RM_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Remove dbsttspck_rm export files older than '${RETENTION_TIME_DAYS}' days' &gt;&gt; ${DBSTTSPCK_RM_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*****************************************' &gt;&gt; ${DBSTTSPCK_RM_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/usr/bin/find . -name "DBSTTSPCK_RM_${ORACLE_SID}_*.exp*" -ctime +${RETENTION_TIME_DAYS} -exec /bin/rm {} \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 ' &gt;&gt; ${DBSTTSPCK_RM_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pwd &gt;&gt; ${DBSTTSPCK_RM_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ls -l &gt;&gt; ${DBSTTSPCK_RM_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 ' &gt;&gt; ${DBSTTSPCK_RM_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cho 'End of dbsttspck_rm' &gt;&gt; ${DBSTTSPCK_RM_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MSG='DBSTTSPCK_RM for '`hostname`':'${ORACLE_SID}' '`date +\%m\%d\%Y_\%T`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/usr/bin/mailx -s "${MSG}" ${NOTIFY_LIST} &lt; ${DBSTTSPCK_RM_LOG}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#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#end of dbsttspck_r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#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746748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Univers"/>
              </a:rPr>
              <a:t>sppurge.sql</a:t>
            </a:r>
            <a:endParaRPr b="1" lang="en-US" sz="40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7848720" cy="407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Univers"/>
              </a:rPr>
              <a:t>sppurge doesn’t delete SQL text</a:t>
            </a: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Univers"/>
              </a:rPr>
              <a:t>SQL to do this</a:t>
            </a: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  <a:p>
            <a:pPr lvl="1" marL="971640" indent="-343080">
              <a:spcBef>
                <a:spcPts val="601"/>
              </a:spcBef>
              <a:buClr>
                <a:srgbClr val="ffffff"/>
              </a:buClr>
              <a:buSzPct val="75000"/>
              <a:buFont typeface="Univer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Univers"/>
              </a:rPr>
              <a:t>Can be resource intensive</a:t>
            </a:r>
            <a:endParaRPr b="0" lang="en-US" sz="2400" spc="-1" strike="noStrike">
              <a:solidFill>
                <a:srgbClr val="ffffff"/>
              </a:solidFill>
              <a:latin typeface="Univers"/>
            </a:endParaRPr>
          </a:p>
          <a:p>
            <a:pPr lvl="1" marL="971640" indent="-343080">
              <a:spcBef>
                <a:spcPts val="601"/>
              </a:spcBef>
              <a:buClr>
                <a:srgbClr val="ffffff"/>
              </a:buClr>
              <a:buSzPct val="75000"/>
              <a:buFont typeface="Univer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Univers"/>
              </a:rPr>
              <a:t>Is in sppurge.sql</a:t>
            </a:r>
            <a:endParaRPr b="0" lang="en-US" sz="2400" spc="-1" strike="noStrike">
              <a:solidFill>
                <a:srgbClr val="ffffff"/>
              </a:solidFill>
              <a:latin typeface="Univers"/>
            </a:endParaRPr>
          </a:p>
          <a:p>
            <a:pPr lvl="2" marL="1371600" indent="-228600">
              <a:spcBef>
                <a:spcPts val="550"/>
              </a:spcBef>
              <a:buClr>
                <a:srgbClr val="ffffff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commented out</a:t>
            </a:r>
            <a:endParaRPr b="0" lang="en-US" sz="2200" spc="-1" strike="noStrike">
              <a:solidFill>
                <a:srgbClr val="ffffff"/>
              </a:solidFill>
              <a:latin typeface="Univers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Univers"/>
              </a:rPr>
              <a:t>Execute this SQL manually</a:t>
            </a: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  <a:p>
            <a:pPr lvl="1" marL="971640" indent="-343080">
              <a:spcBef>
                <a:spcPts val="601"/>
              </a:spcBef>
              <a:buClr>
                <a:srgbClr val="ffffff"/>
              </a:buClr>
              <a:buSzPct val="75000"/>
              <a:buFont typeface="Univer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Univers"/>
              </a:rPr>
              <a:t>or un-comment in sppurge.sql</a:t>
            </a:r>
            <a:endParaRPr b="0" lang="en-US" sz="2400" spc="-1" strike="noStrike">
              <a:solidFill>
                <a:srgbClr val="ffffff"/>
              </a:solidFill>
              <a:latin typeface="Univer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746748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Univers"/>
              </a:rPr>
              <a:t>Installation Process</a:t>
            </a:r>
            <a:endParaRPr b="1" lang="en-US" sz="40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175" name=""/>
          <p:cNvSpPr/>
          <p:nvPr/>
        </p:nvSpPr>
        <p:spPr>
          <a:xfrm>
            <a:off x="457200" y="1219320"/>
            <a:ext cx="8229600" cy="511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kdir -p $ORACLE_HOME/admin/bi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kdir -p $ORACLE_HOME/admin/dbdoc_lo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kdir -p $ORACLE_HOME/admin/dbexport_exp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kdir -p $ORACLE_HOME/admin/dbexport_lo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kdir -p $ORACLE_HOME/admin/dbsttspck_rm_exp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kdir -p $ORACLE_HOME/admin/dbsttspck_rm_lo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d $ORACLE_HOME/admin/bi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tp daylight.sfba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d A_My_Documents/DBA/bi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i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et dbdo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et dbexpor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et dbsttspck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et dbsttspck_r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hmod 744 dbdo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hmod 744 dbexpor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hmod 744 dbsttspck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hmod 744 dbsttspck_r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v dbdoc dbdoc_&lt;SID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v dbexport dbeport_&lt;SID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v dbsttspck dbsttspck_&lt;SID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v dbsttspck_rm dbsttspck_rm_&lt;SID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746748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Univers"/>
              </a:rPr>
              <a:t>Installation Process</a:t>
            </a:r>
            <a:endParaRPr b="1" lang="en-US" sz="40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177" name=""/>
          <p:cNvSpPr/>
          <p:nvPr/>
        </p:nvSpPr>
        <p:spPr>
          <a:xfrm>
            <a:off x="609480" y="1600200"/>
            <a:ext cx="7925040" cy="42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bdoc parameters to setup..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RACLE_SID=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RACLE_HOME=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TIFY_LIST=‘&lt;email address&gt;'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ATH=/bin:/usr/bin:/usr/ccs/bin:/usr/sbin:${ORACLE_HOME}/bin: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LS_LANG=AMERICAN_AMERICA.US7ASCII, .WE8ISO8859P1, .UTF8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OGDIR=$ORACLE_HOME/admin/dbdoc_lo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TENTION_TIME_DAYS=&lt;number of days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BDOCLOG=${LOGDIR}/DBDOC_${ORACLE_SID}_`date +\%m\%d\%Y_\%T`.ou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SHRC_FILE=~/.cshr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IT_FILE_PATH=$ORACLE_HOME/admin/pfi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RDB_FILE_PATH=$ORACLE_HOME/admin/sq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ISTENER_PATH=$ORACLE_HOME/network/admi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NSNAMES_PATH=$ORACLE_HOME/admin/network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dditional dbexport parameters to setup..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XPORTDIR=$ORACLE_HOME/admin/dbexport_exp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OGDIR=$ORACLE_HOME/admin/dbexport_lo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746748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Univers"/>
              </a:rPr>
              <a:t>Installation Process</a:t>
            </a:r>
            <a:endParaRPr b="1" lang="en-US" sz="40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" y="1371600"/>
            <a:ext cx="784872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--&gt; note: dbexport uses '/' as the user/password for export -- if the db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s not configured with os_authent_prefix='OPS$' then you need to chang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SQL in the crdb script to create the OPS$ORACLE user. The os_authent_prefix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nd the characters before the username must match (OPS$ and OPS$ORACLE f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xample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--&gt; to create the OPS$ORACLE us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reate user ops$oracle identified externally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rant dba to ops$oracle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lter user ops$oracle temporary tablespace temp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nnect /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@?/rdbms/admin/catdbsyn.sql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--&gt; need to install STATSPACK for the dbsttspck, dbsttspck_rm cron jobs..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vrmgr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nnect interna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reate tablespace perfstat datafi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'/xxx/xxx/perfstat_01.dbf' size 750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xtent management local uniform size 40K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d $ORACLE_HOME/rdbms/admi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qlplus sy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@spcreate.sq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746748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Univers"/>
              </a:rPr>
              <a:t>Requirements Satisfied</a:t>
            </a:r>
            <a:endParaRPr b="1" lang="en-US" sz="40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7848720" cy="407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Univers"/>
              </a:rPr>
              <a:t>Platform independent</a:t>
            </a: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  <a:p>
            <a:pPr lvl="1" marL="913320" indent="-322200">
              <a:spcBef>
                <a:spcPts val="601"/>
              </a:spcBef>
              <a:buClr>
                <a:srgbClr val="ffffff"/>
              </a:buClr>
              <a:buSzPct val="75000"/>
              <a:buFont typeface="Univer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Univers"/>
              </a:rPr>
              <a:t>email works everywhere</a:t>
            </a:r>
            <a:endParaRPr b="0" lang="en-US" sz="2400" spc="-1" strike="noStrike">
              <a:solidFill>
                <a:srgbClr val="ffffff"/>
              </a:solidFill>
              <a:latin typeface="Univers"/>
            </a:endParaRPr>
          </a:p>
          <a:p>
            <a:pPr lvl="1" marL="913320" indent="-322200">
              <a:spcBef>
                <a:spcPts val="601"/>
              </a:spcBef>
              <a:buClr>
                <a:srgbClr val="ffffff"/>
              </a:buClr>
              <a:buSzPct val="75000"/>
              <a:buFont typeface="Univer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Univers"/>
              </a:rPr>
              <a:t>cron (UNIX)</a:t>
            </a:r>
            <a:endParaRPr b="0" lang="en-US" sz="2400" spc="-1" strike="noStrike">
              <a:solidFill>
                <a:srgbClr val="ffffff"/>
              </a:solidFill>
              <a:latin typeface="Univers"/>
            </a:endParaRPr>
          </a:p>
          <a:p>
            <a:pPr lvl="1" marL="913320" indent="-322200">
              <a:spcBef>
                <a:spcPts val="601"/>
              </a:spcBef>
              <a:buClr>
                <a:srgbClr val="ffffff"/>
              </a:buClr>
              <a:buSzPct val="75000"/>
              <a:buFont typeface="Univer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Univers"/>
              </a:rPr>
              <a:t>email viewer works on multiple platforms</a:t>
            </a:r>
            <a:endParaRPr b="0" lang="en-US" sz="2400" spc="-1" strike="noStrike">
              <a:solidFill>
                <a:srgbClr val="ffffff"/>
              </a:solidFill>
              <a:latin typeface="Univers"/>
            </a:endParaRPr>
          </a:p>
          <a:p>
            <a:pPr lvl="2" marL="1289160" indent="-214560">
              <a:spcBef>
                <a:spcPts val="550"/>
              </a:spcBef>
              <a:buClr>
                <a:srgbClr val="ffffff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DBAs can be</a:t>
            </a:r>
            <a:endParaRPr b="0" lang="en-US" sz="2200" spc="-1" strike="noStrike">
              <a:solidFill>
                <a:srgbClr val="ffffff"/>
              </a:solidFill>
              <a:latin typeface="Univers"/>
            </a:endParaRPr>
          </a:p>
          <a:p>
            <a:pPr lvl="3" marL="1611720" indent="-161280">
              <a:spcBef>
                <a:spcPts val="550"/>
              </a:spcBef>
              <a:buClr>
                <a:srgbClr val="ffffff"/>
              </a:buClr>
              <a:buFont typeface="Univers"/>
              <a:buChar char="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local</a:t>
            </a:r>
            <a:endParaRPr b="0" lang="en-US" sz="2200" spc="-1" strike="noStrike">
              <a:solidFill>
                <a:srgbClr val="ffffff"/>
              </a:solidFill>
              <a:latin typeface="Univers"/>
            </a:endParaRPr>
          </a:p>
          <a:p>
            <a:pPr lvl="3" marL="1611720" indent="-161280">
              <a:spcBef>
                <a:spcPts val="550"/>
              </a:spcBef>
              <a:buClr>
                <a:srgbClr val="ffffff"/>
              </a:buClr>
              <a:buFont typeface="Univers"/>
              <a:buChar char="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remote</a:t>
            </a:r>
            <a:endParaRPr b="0" lang="en-US" sz="2200" spc="-1" strike="noStrike">
              <a:solidFill>
                <a:srgbClr val="ffffff"/>
              </a:solidFill>
              <a:latin typeface="Univers"/>
            </a:endParaRPr>
          </a:p>
          <a:p>
            <a:pPr lvl="3" marL="1611720" indent="-161280">
              <a:spcBef>
                <a:spcPts val="550"/>
              </a:spcBef>
              <a:buClr>
                <a:srgbClr val="ffffff"/>
              </a:buClr>
              <a:buFont typeface="Univers"/>
              <a:buChar char="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at home</a:t>
            </a:r>
            <a:endParaRPr b="0" lang="en-US" sz="2200" spc="-1" strike="noStrike">
              <a:solidFill>
                <a:srgbClr val="ffffff"/>
              </a:solidFill>
              <a:latin typeface="Univers"/>
            </a:endParaRPr>
          </a:p>
          <a:p>
            <a:pPr lvl="3" marL="1611720" indent="-161280">
              <a:spcBef>
                <a:spcPts val="550"/>
              </a:spcBef>
              <a:buClr>
                <a:srgbClr val="ffffff"/>
              </a:buClr>
              <a:buFont typeface="Univers"/>
              <a:buChar char="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anywhere</a:t>
            </a:r>
            <a:endParaRPr b="0" lang="en-US" sz="2200" spc="-1" strike="noStrike">
              <a:solidFill>
                <a:srgbClr val="ffffff"/>
              </a:solidFill>
              <a:latin typeface="Univers"/>
            </a:endParaRPr>
          </a:p>
          <a:p>
            <a:pPr lvl="1" marL="913320" indent="-322200">
              <a:spcBef>
                <a:spcPts val="601"/>
              </a:spcBef>
              <a:buClr>
                <a:srgbClr val="ffffff"/>
              </a:buClr>
              <a:buSzPct val="75000"/>
              <a:buFont typeface="Univer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Univers"/>
              </a:rPr>
              <a:t>Works in secure environments</a:t>
            </a:r>
            <a:endParaRPr b="0" lang="en-US" sz="2400" spc="-1" strike="noStrike">
              <a:solidFill>
                <a:srgbClr val="ffffff"/>
              </a:solidFill>
              <a:latin typeface="Univer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746748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Univers"/>
              </a:rPr>
              <a:t>crontab Entries</a:t>
            </a:r>
            <a:endParaRPr b="1" lang="en-US" sz="40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181" name=""/>
          <p:cNvSpPr/>
          <p:nvPr/>
        </p:nvSpPr>
        <p:spPr>
          <a:xfrm>
            <a:off x="609480" y="1905120"/>
            <a:ext cx="7848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 15 * * * /db/oracle/app/oracle/product/8.1.7/admin/bin/dbdoc_ISEDB &gt; /dev/null 2&gt;&amp;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30 15 * * * /db/oracle/app/oracle/product/8.1.7/admin/bin/dbexport_ISEDB &gt; /dev/null 2&gt;&amp;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 16 * * 0 /db/oracle/app/oracle/product/8.1.7/admin/bin/dbsttspck_rm_ISEDB &gt; /dev/null 2&gt;&amp;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,15,30,45 * * * * /db/oracle/app/oracle/product/8.1.7/admin/bin/dbsttspck_ISEDB &gt; /dev/null 2&gt;&amp;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746748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Univers"/>
              </a:rPr>
              <a:t>Db Vendor Independent</a:t>
            </a:r>
            <a:endParaRPr b="1" lang="en-US" sz="40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7848720" cy="407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Univers"/>
              </a:rPr>
              <a:t>Same process used for</a:t>
            </a: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  <a:p>
            <a:pPr lvl="1" marL="971640" indent="-343080">
              <a:spcBef>
                <a:spcPts val="601"/>
              </a:spcBef>
              <a:buClr>
                <a:srgbClr val="ffffff"/>
              </a:buClr>
              <a:buSzPct val="75000"/>
              <a:buFont typeface="Univer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Univers"/>
              </a:rPr>
              <a:t>Sybase databases</a:t>
            </a:r>
            <a:endParaRPr b="0" lang="en-US" sz="2400" spc="-1" strike="noStrike">
              <a:solidFill>
                <a:srgbClr val="ffffff"/>
              </a:solidFill>
              <a:latin typeface="Univers"/>
            </a:endParaRPr>
          </a:p>
          <a:p>
            <a:pPr lvl="1" marL="971640" indent="-343080">
              <a:spcBef>
                <a:spcPts val="601"/>
              </a:spcBef>
              <a:buClr>
                <a:srgbClr val="ffffff"/>
              </a:buClr>
              <a:buSzPct val="75000"/>
              <a:buFont typeface="Univer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Univers"/>
              </a:rPr>
              <a:t>MySQL databases</a:t>
            </a:r>
            <a:endParaRPr b="0" lang="en-US" sz="2400" spc="-1" strike="noStrike">
              <a:solidFill>
                <a:srgbClr val="ffffff"/>
              </a:solidFill>
              <a:latin typeface="Univers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Univers"/>
              </a:rPr>
              <a:t>Modify cron scripts to use vendor specific SQL commands</a:t>
            </a: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746748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Univers"/>
              </a:rPr>
              <a:t>Requirements Satisfied</a:t>
            </a:r>
            <a:endParaRPr b="1" lang="en-US" sz="40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7848720" cy="407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Univers"/>
              </a:rPr>
              <a:t>Database vendor independent </a:t>
            </a: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  <a:p>
            <a:pPr lvl="1" marL="971640" indent="-343080">
              <a:spcBef>
                <a:spcPts val="601"/>
              </a:spcBef>
              <a:buClr>
                <a:srgbClr val="ffffff"/>
              </a:buClr>
              <a:buSzPct val="75000"/>
              <a:buFont typeface="Univer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Univers"/>
              </a:rPr>
              <a:t>Email, cron scripts</a:t>
            </a:r>
            <a:endParaRPr b="0" lang="en-US" sz="2400" spc="-1" strike="noStrike">
              <a:solidFill>
                <a:srgbClr val="ffffff"/>
              </a:solidFill>
              <a:latin typeface="Univers"/>
            </a:endParaRPr>
          </a:p>
          <a:p>
            <a:pPr lvl="1" marL="971640" indent="-343080">
              <a:spcBef>
                <a:spcPts val="601"/>
              </a:spcBef>
              <a:buClr>
                <a:srgbClr val="ffffff"/>
              </a:buClr>
              <a:buSzPct val="75000"/>
              <a:buFont typeface="Univer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Univers"/>
              </a:rPr>
              <a:t>Can use commands for any database</a:t>
            </a:r>
            <a:endParaRPr b="0" lang="en-US" sz="2400" spc="-1" strike="noStrike">
              <a:solidFill>
                <a:srgbClr val="ffffff"/>
              </a:solidFill>
              <a:latin typeface="Univers"/>
            </a:endParaRPr>
          </a:p>
          <a:p>
            <a:pPr lvl="1" marL="971640" indent="-343080">
              <a:spcBef>
                <a:spcPts val="601"/>
              </a:spcBef>
              <a:buClr>
                <a:srgbClr val="ffffff"/>
              </a:buClr>
              <a:buSzPct val="75000"/>
              <a:buFont typeface="Univer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Univers"/>
              </a:rPr>
              <a:t>Output is simple text</a:t>
            </a:r>
            <a:endParaRPr b="0" lang="en-US" sz="2400" spc="-1" strike="noStrike">
              <a:solidFill>
                <a:srgbClr val="ffffff"/>
              </a:solidFill>
              <a:latin typeface="Univers"/>
            </a:endParaRPr>
          </a:p>
          <a:p>
            <a:pPr lvl="1" marL="971640" indent="-343080">
              <a:spcBef>
                <a:spcPts val="601"/>
              </a:spcBef>
              <a:buClr>
                <a:srgbClr val="ffffff"/>
              </a:buClr>
              <a:buSzPct val="75000"/>
              <a:buFont typeface="Univer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Univers"/>
              </a:rPr>
              <a:t>Easy to modify to vendor specifics</a:t>
            </a:r>
            <a:endParaRPr b="0" lang="en-US" sz="2400" spc="-1" strike="noStrike">
              <a:solidFill>
                <a:srgbClr val="ffffff"/>
              </a:solidFill>
              <a:latin typeface="Univers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Univers"/>
              </a:rPr>
              <a:t>Outputs provide written record</a:t>
            </a: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  <a:p>
            <a:pPr lvl="1" marL="971640" indent="-343080">
              <a:spcBef>
                <a:spcPts val="601"/>
              </a:spcBef>
              <a:buClr>
                <a:srgbClr val="ffffff"/>
              </a:buClr>
              <a:buSzPct val="75000"/>
              <a:buFont typeface="Univer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Univers"/>
              </a:rPr>
              <a:t>Email backed up automatically</a:t>
            </a:r>
            <a:endParaRPr b="0" lang="en-US" sz="2400" spc="-1" strike="noStrike">
              <a:solidFill>
                <a:srgbClr val="ffffff"/>
              </a:solidFill>
              <a:latin typeface="Univers"/>
            </a:endParaRPr>
          </a:p>
          <a:p>
            <a:pPr lvl="1" marL="97164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Univer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746748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Univers"/>
              </a:rPr>
              <a:t>Free</a:t>
            </a:r>
            <a:endParaRPr b="1" lang="en-US" sz="40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7848720" cy="407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Univers"/>
              </a:rPr>
              <a:t>Email</a:t>
            </a: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Univers"/>
              </a:rPr>
              <a:t>cron</a:t>
            </a: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Univers"/>
              </a:rPr>
              <a:t>Basic system utilities provided with the OS of a system</a:t>
            </a: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Univers"/>
              </a:rPr>
              <a:t>No need to run any additional apps on the database machine</a:t>
            </a: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  <a:p>
            <a:pPr lvl="1" marL="971640" indent="-343080">
              <a:spcBef>
                <a:spcPts val="601"/>
              </a:spcBef>
              <a:buClr>
                <a:srgbClr val="ffffff"/>
              </a:buClr>
              <a:buSzPct val="75000"/>
              <a:buFont typeface="Univer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Univers"/>
              </a:rPr>
              <a:t>Oracle OEM needs ‘agent’ for some tasks</a:t>
            </a:r>
            <a:endParaRPr b="0" lang="en-US" sz="2400" spc="-1" strike="noStrike">
              <a:solidFill>
                <a:srgbClr val="ffffff"/>
              </a:solidFill>
              <a:latin typeface="Univer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11-06T19:19:12Z</dcterms:created>
  <dc:creator>Analyst Day</dc:creator>
  <dc:description/>
  <dc:language>en-US</dc:language>
  <cp:lastModifiedBy>Darrin Swan</cp:lastModifiedBy>
  <cp:lastPrinted>2001-11-07T03:16:31Z</cp:lastPrinted>
  <dcterms:modified xsi:type="dcterms:W3CDTF">2003-08-25T18:23:42Z</dcterms:modified>
  <cp:revision>500</cp:revision>
  <dc:subject/>
  <dc:title>Jerry Held</dc:title>
</cp:coreProperties>
</file>