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467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" name=""/>
          <p:cNvSpPr/>
          <p:nvPr/>
        </p:nvSpPr>
        <p:spPr>
          <a:xfrm>
            <a:off x="990720" y="65530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ian Hitchcock  August 6,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10280" y="6553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06245C69-B86C-41B9-BC3A-2DD3197CA5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COU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838080"/>
            <a:ext cx="6705720" cy="52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Managing Multiple Databases Without Multiple DB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Brian Hitchcock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OCP DBA 8, 8i, 9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Global Sales 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Sun Microsyst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nivers"/>
              </a:rPr>
              <a:t>brian.hitchcock@sun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nivers"/>
              </a:rPr>
              <a:t>brhora@aol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COU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Secure Environment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* scrip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Use OS utiliti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ay not be availabl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acle’ may not be able to execut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odify scripts as neede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Use OS utilities that are availabl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ecute scripts as ‘root’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68580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ron scrip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905120"/>
            <a:ext cx="78483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cument database - week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Full export - week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sttsp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ecute STATSPACK snapshot - 15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ge old snapshot data - week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at’s Not to Like?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t coo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n’t impress your DBA friend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 multi-color graph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 web servic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n’t alert you to a performance metric exceeding a preset threshol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Monitoring Multiple Databas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Review email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ompare with spreadsheet of dbs being monitore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solve issu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hat happened this weekend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ort by date, look at Sat/Su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id all the cron jobs run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For each databas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ort by subjec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ow often are backups happening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hat was the value of shared_pool_size last week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ow big are the export files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how fast is the database growing?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rrors in the alert log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Spreadshee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atabases supporte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ostnam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mai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nam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S vers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vendor, vers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ron scripts installed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pen task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 emails By Dat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72" name="Snapshot_dbdoc_by_date_08182003" descr=""/>
          <p:cNvPicPr/>
          <p:nvPr/>
        </p:nvPicPr>
        <p:blipFill>
          <a:blip r:embed="rId1"/>
          <a:stretch/>
        </p:blipFill>
        <p:spPr>
          <a:xfrm>
            <a:off x="147600" y="1066680"/>
            <a:ext cx="89964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 emails By Subjec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74" name="Snapshot_dbdoc_by_subject_08182003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racking Export Fil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371600"/>
            <a:ext cx="746748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isting dbexport export files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urrent sysd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7 15:39:56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db/archive/ISEDB/dbexport_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otal 596318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5651476 Aug  1 15:36 DBEXPORT_ISEDB_0801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7080229 Aug  2 15:36 DBEXPORT_ISEDB_0802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8525161 Aug  3 15:36 DBEXPORT_ISEDB_0803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200042388 Aug  4 15:36 DBEXPORT_ISEDB_0804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7474155 Aug  5 15:36 DBEXPORT_ISEDB_0805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5931281 Aug  6 15:36 DBEXPORT_ISEDB_0806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7592593 Aug  7 15:36 DBEXPORT_ISEDB_0807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9231985 Aug  8 15:36 DBEXPORT_ISEDB_0808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80907372 Aug  9 15:36 DBEXPORT_ISEDB_0809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82555091 Aug 10 15:36 DBEXPORT_ISEDB_0810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6163181 Aug 11 15:36 DBEXPORT_ISEDB_0811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7849927 Aug 12 15:36 DBEXPORT_ISEDB_0812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9539345 Aug 13 15:36 DBEXPORT_ISEDB_0813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1279375 Aug 14 15:36 DBEXPORT_ISEDB_0814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2940377 Aug 15 15:36 DBEXPORT_ISEDB_0815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3841037 Aug 16 15:36 DBEXPORT_ISEDB_0816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4806577 Aug 17 15:36 DBEXPORT_ISEDB_08172003_15:30:04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racking Export Fil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29528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295280"/>
            <a:ext cx="74674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move dbexport export files older than 14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db/archive/ISEDB/dbexport_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otal 55808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7080229 Aug  2 15:36 DBEXPORT_ISEDB_0802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8525161 Aug  3 15:36 DBEXPORT_ISEDB_0803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200042388 Aug  4 15:36 DBEXPORT_ISEDB_0804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7474155 Aug  5 15:36 DBEXPORT_ISEDB_0805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5931281 Aug  6 15:36 DBEXPORT_ISEDB_0806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7592593 Aug  7 15:36 DBEXPORT_ISEDB_0807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9231985 Aug  8 15:36 DBEXPORT_ISEDB_0808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80907372 Aug  9 15:36 DBEXPORT_ISEDB_0809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82555091 Aug 10 15:36 DBEXPORT_ISEDB_0810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6163181 Aug 11 15:36 DBEXPORT_ISEDB_0811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7849927 Aug 12 15:36 DBEXPORT_ISEDB_0812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9539345 Aug 13 15:36 DBEXPORT_ISEDB_0813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1279375 Aug 14 15:36 DBEXPORT_ISEDB_0814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2940377 Aug 15 15:36 DBEXPORT_ISEDB_0815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3841037 Aug 16 15:36 DBEXPORT_ISEDB_0816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4806577 Aug 17 15:36 DBEXPORT_ISEDB_08172003_15:30:04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d of db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at Was Needed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onitor status of development databas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ome ‘production’ db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Regular backup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upport multiple db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asy to add, remove dbs, DBA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latform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atabase vendor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ree (i.e. no money to spend)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hecking Email Outpu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id the cron job run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Is the db on-line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id the export complete without errors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id the older files get purged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 -- Checking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06668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is is output from TAO DBA script db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on Aug 18 15:00:04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ocument shell script environment for db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OWNE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HOME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db/oracle/app/oracle/product/8.1.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db/oracle/app/oracle/product/8.1.7/admin/dbdoc_log/DBDOC_ISEDB_08182003_15:00:04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SID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SE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 -- Checking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nrctl stat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NRCTL for Solaris: Version 8.1.7.4.0 - Production on 18-AUG-2003 15:00: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c) Copyright 1998 Oracle Corporation. 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nnecting to (DESCRIPTION=(ADDRESS=(PROTOCOL=TCP)(HOST=akula)(PORT=1521))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TUS of the LISTE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---------------------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ias                     LISTE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ersion                   TNSLSNR for Solaris: Version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rt Date                15-AUG-2003 09:47:4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time                    3 days 5 hr. 12 min. 16 se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ace Level              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curity                 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NMP                     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istener Parameter File   /export/home/oracle/admin/etc/listener.o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istener Log File         /db/oracle/app/oracle/product/8.1.7/network/log/listener.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rvices Summary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SEDB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as 2 service handler(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e command completed successful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 -- Checking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143000"/>
            <a:ext cx="777240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&gt; select * from v$databas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ID       NAME      CREATED   RESETLOGS_ RESETLOGS PRIOR_RESE PRIOR_RES LOG_MODE     CHECKPOINT ARCHIVE_CH CONTROL CONTROLFI CONTROLFIL CONTROLFIL CONTROLFI OPEN_RESETL VERSION_T OPEN_MO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-------- --------- --------- ---------- --------- ---------- --------- ------------ ---------- ---------- ------- --------- ---------- ---------- --------- ----------- --------- ---------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676441298 ISEDB     12-DEC-01          1 12-DEC-01          0           NOARCHIVELOG   17261606   17260115 CURRENT 12-DEC-01       9760   17261662 18-AUG-03 NOT ALLOWED 12-DEC-01 READ WRI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 row select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&gt; 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ocument recent contents of alert 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&gt; select value from v$parameter where name='background_dump_dest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export/home/oracle/admin/ISEDB/bdump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 row select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&gt; 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&gt; background_dump_dest path 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export/home/oracle/admin/ISEDB/bdu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&gt; alert log file name 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ert_ISEDB.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&gt; tail -500 of alert file 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RC0: media recovery disabl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0 16:11:52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read 1 advanced to log sequence 247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urrent log# 1 seq# 2477 mem# 0: /db/redo/ISEDB/log/redo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urrent log# 1 seq# 2477 mem# 1: /db/redo/ISEDB/loga/redo1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 -- Email outpu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143000"/>
            <a:ext cx="769608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rt time of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on Aug 18 15:30:03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nnected to: Oracle8i Enterprise Edition Release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ith the Partitioning op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JServer Release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one in UTF8 character set and UTF8 NCHAR character 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bout to export the entire database 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snapshot log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job queu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refresh groups and childr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dimen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post-schema procedural objects and 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user history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default and system auditing op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statist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terminated successfully without warning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d time of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on Aug 18 15:36:19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 -- Check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8487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is is output from TAO DBA script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7 16:00:05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s for this run of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of MIN_SNAP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308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of MAX_SNAP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66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of TRUNC_SNAP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375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of RETENTION_TIME_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ocument shell script environment for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 -- Check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143000"/>
            <a:ext cx="784872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rt time of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7 16:00:06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nnected to: Oracle8i Enterprise Edition Release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ith the Partitioning op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JServer Release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one in UTF8 character set and UTF8 NCHAR character 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pre-schema procedural objects and 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foreign function library names for user PERFSTA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object type definitions for user PERFSTA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bout to export PERFSTAT's objects 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database lin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sequence numb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cluster defin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about to export PERFSTAT's tables via Conventional Path 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. exporting table         STATS$BG_EVENT_SUMMARY      69403 rows expor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. exporting table   STATS$BUFFER_POOL_STATISTICS       3551 rows expor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. exporting table        STATS$DATABASE_INSTANCE          3 rows expor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dimen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post-schema procedural objects and 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statist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terminated successfully without warning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d time of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7 16:05:30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ron Scripts -- Detail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cument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Full expor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sttspck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ecute STATSPACK snapsho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ge old snapshot data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Uses OS command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cument machine, environ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vrmgrl to access databas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qlplus for 9i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assword not in scrip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Use OS authentic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219320"/>
            <a:ext cx="77724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!/bin/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is dbdoc -- script version of extended checkli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o document an Oracle database and the host machine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s running 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version also removes dbdoc log file over XX days ol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dded more SQL for partitioned tables, index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dded SQL to compute %used for tablespa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mproved SQL for partitioned tables, index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etup environment parameters for the scri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S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OWNER=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$ORACLE_OW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HO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TIFY_LIST='&lt;email address&gt;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OTIFY_LI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D_LIBRARY_PATH=$ORACLE_HOME/lib:/usr/lib:/usr/openwin/li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D_LIBRARY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LS_LANG=AMERICAN_AMERICA.US7ASCII, .WE8ISO8859P1, .UTF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LS_L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OGDIR=$ORACLE_HOME/admin/dbdoc_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OG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TENTION_TIME_DAYS=&lt;number of days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y Was This Needed?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oduction database suppor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 center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evelopment database suppor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ome ‘production’ dbs as wel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eed to monitor, backup, support all dbs not in data center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ome dbs outside company firewall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tandard monitoring tools don’t work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219320"/>
            <a:ext cx="777240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RETENTION_TIME_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DOCLOG=${LOGDIR}/DBDOC_${ORACLE_SID}_`date +\%m\%d\%Y_\%T`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DOC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L_TMP=${LOGDIR}/SVRMGRL_TMP_${ORACLE_SID}_`date +\%m\%d\%Y_\%T`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SVRMGRL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SHRC_FILE=~/.cshrc_&lt;SI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CSHRC_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IT_FILE_PATH=$ORACLE_HOME/admin/p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INIT_FILE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DB_FILE_PATH=$ORACLE_HOME/admin/sq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CRDB_FILE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ISTENER_PATH=$ORACLE_HOME/admin/netwo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ISTENER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NSNAMES_PATH=$ORACLE_HOME/admin/netwo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TNSNAMES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BDOCLOG2 is setup to catch the useless output of svrmgr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nd put we put this file in /dev/null so it really won'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ppear on disk at all. Without this file, all the text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very svrmgrl connect will appear on screen when this scri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s run from the command lin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DOCLOG2=/dev/nu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DOCLOG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This is output from TAO DBA script dbdoc' 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219320"/>
            <a:ext cx="769608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at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shell script environment for db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shell script environment for dbdoc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cho ${ORACLE_OWNER}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OWNER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HOM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DOCLOG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SID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SHRC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v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server mach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1932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server machin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ostnam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tim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getconf CLK_TCK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sbin/prtconf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ame -a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/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/etc/vfstab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/var/opt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/opt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l /dev/rdsk | grep oracl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l /dev/rdsk | grep sybas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ail -40 /etc/system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/etc/passw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/etc/group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UNIX user 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UNIX user orac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143000"/>
            <a:ext cx="78487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id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CSHRC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SHRC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Oracle database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Oracle database instanc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ps -ef | grep orac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s -ef | grep oracl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ontab -l oracl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nrctl status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143000"/>
            <a:ext cx="784872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l &lt;&lt; EOF &gt;&gt; ${DBDOCLOG2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termout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echo 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nnect 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ool '$SVRMGRL_TMP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databas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SVRMGRL_TMP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instanc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ow sg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version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option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datafil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data_fi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tablespac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logfil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log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rchive log lis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count(first_change#) "logswitches per hour" , to_char(first_tim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'yyyy.mm.dd HH24') "on hour" from v\$loghist group by to_char(first_time, 'yyyy.mm.dd HH24')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rollback_seg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segment_name, tablespace_name, initial_extent, next_extent, min_extents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x_extents, pct_increase, status from dba_rollback_seg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usn, optsize, extents from v\$rollsta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controlfil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sum(bytes)/1024/1024 Mb from dba_data_f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sum(bytes)/1024/1024 Mb from dba_free_space 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by tablespace_name order by tablespace_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sum(bytes)/1024/1024 Mb, count (Blocks) Tb, min(Bytes)/1024/1024 MinMb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x(Bytes)/1024/1024 MaxMb from dba_free_space group by tablespace_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sum(bytes)/1024/1024 Db_Total_Megabytes from dba_data_fi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sum(bytes)/1024/1024 Db_Total_Free_Megabytes from dba_free_spac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a.t1 "Tablespace", trunc(b.Mb) "Total Mb", trunc(a.Mb) "Used Mb",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unc(b.Mb-a.Mb) "Free Mb",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unc((a.Mb/b.Mb)*100) "Used%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(select tablespace_name t1, sum(bytes)/1024/1024 Mb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sys.dba_ext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oup by tablespace_name) 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select tablespace_name t2, sum(bytes)/1024/1024 M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sys.dba_data_f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oup by tablespace_name) 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here a.t1 = b.t2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initial_extent,next_extent,pct_increase,min_extents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x_extents from dba_tablespac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tempfil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temp_fi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count(*) from dba_part_tab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_name, partitioning_type, partition_count from dba_part_tab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count(*) from dba_part_index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index_name, partitioning_type, partition_count from dba_part_index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name, object_type, count(*) from dba_part_key_columns group by name, object_typ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part_key_column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_name, index_name from dba_part_indexes whe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wner !='SYS' order by table_name, index_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long 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_name, tablespace_name, partition_name, partition_position, high_value from dba_tab_part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der by table_name, partition_position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long 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index_name, tablespace_name, partition_name, partition_position, high_value from dba_ind_part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der by index_name, partition_position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143000"/>
            <a:ext cx="792468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index_name, tablespace_name, status from dba_indexes where status like 'UNUSABLE%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index_name, partition_name, partition_position, tablespace_name, stat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dba_ind_partitions where status like 'UNUSABLE%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bytes/1024/1024 Mb, substr(file_name,1,40) from dba_temp_fi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total_blocks*8192/1024/1024 TOTALMb, free_blocks*8192/1024/1024 FREEMb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sed_blocks*8192/1024/1024 USEDMb from v\$sort_segmen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count(*) from dba_objects group by owner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count(*), object_type from dba_objects group by object_type, owner order by owner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count(*) from dba_tables where tablespace_name='SYSTEM' group by owner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table_name from dba_tables where owner !='SYS' and tablespace_name='SYSTEM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count(*) from dba_objects where status='INVALID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object_type, object_name, status from dba_obje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here status='INVALID' order by owner, object_type, object_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users order by user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username,default_tablespace, temporary_tablespace fr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a_users order by user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sum(bytes)/1024/1024 Megabytes from dba_segments group by owner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ts_quota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ro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role_privs where grantee no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'DBA','DBSNMP','EXP_FULL_DATABASE','IMP_FULL_DATABASE'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'SYS','SYSTEM')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sys_privs where grantee no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'CONNECT','DBA','DBSNMP','EXP_FULL_DATABASE','IMP_FULL_DATABASE'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'RECOVERY_CATALOG_OWNER','RESOURCE','SNMPAGENT','SYS','SYSTEM')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name,value from v\$parameter order by 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name, value from v\$parameter where isdefault = 'FALSE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nls_database_parameter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db_link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synonyms where table_owner !='SYS' and table_owner !='SYSTEM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143000"/>
            <a:ext cx="784872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ter database backup controlfile to trac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sql backup control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value from v\$parameter where name='user_dump_dest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DUMP_PATH=`tail -3 $SVRMGRL_TMP | head -1 | awk '{ print $1 }'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DUMP_FILE=`ls -1rt ${UDUMP_PATH} | tail -1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${UDUMP_PATH}/${UDUMP_FILE} 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UDUMP_PATH}/${UDUMP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${INIT_FILE_PATH}/init${ORACLE_SID}.ora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INIT_FILE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IT_FILE=init${ORACLE_SID}.o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INIT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INIT_FILE_PATH}/${INIT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crdb${ORACLE_SID}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CRDB_FILE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DB_FILE=crdb${ORACLE_SID}.sq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CRDB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crdb file contents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RDB_FILE_PATH}/${CRDB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143000"/>
            <a:ext cx="784872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listener.ora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LISTENER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file name is listener.ora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LISTENER_PATH}/listener.ora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tnsnames.ora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TNSNAMES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file name is tnsnames.ora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tnsnames file contents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TNSNAMES_PATH}/tnsnames.ora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/var/opt/oracle/oratab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/var/opt/oracl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file name is oratab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/var/opt/oracle/oratab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recent contents of alert log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14300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value from v\$parameter where name='background_dump_dest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ERT_PATH=`tail -3 $SVRMGRL_TMP | head -1 | awk '{ print $1 }'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ALERT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ERT_FILE=alert_${ORACLE_SID}.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ALERT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ail -500 ${ALERT_PATH}/${ALERT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SVRMGRL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doc log files...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ORACLE_HOME/admin/dbdoc_log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LOG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doc log files older than '${RETENTION_TIME_DAYS}' days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DOC_${ORACLE_SID}_*.out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quirement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upport multiple databas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61920" indent="-3394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asy to add/drop a db, DBA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latform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61920" indent="-3394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esn’t require any tools or products from any specific vendor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atabase vendor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61920" indent="-3394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ame process works for Oracle, Sybase, MySQ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re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143000"/>
            <a:ext cx="78487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of dbdoc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SG='DBDOC for '`hostname`':'${ORACLE_SID}' '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mailx -s "${MSG}" ${NOTIFY_LIST} &l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nd of db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ull export of a single databas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mpress export fil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f needed, export directly to compressed file through pip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urge older export fil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hy not cold/hot backups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evelopment machines don’t have disk space for a single copy of each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ports much smaller than full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!/bin/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is dbexport -- script to create a full export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 database, the script exports normally, and then compresses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fi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cript sets all needed environment parame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cript removes export files older than XX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S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OWNER=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$ORACLE_OW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HO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TIFY_LIST='&lt;email address&gt;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OTIFY_LI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D_LIBRARY_PATH=$ORACLE_HOME/lib:/usr/lib:/usr/openwin/li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D_LIBRARY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LS_LANG=AMERICAN_AMERICA.US7ASCII, .WE8ISO8859P1, .UTF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LS_L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SHRC_FILE=~/.cshrc_&lt;SI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CSHRC_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OGDIR=$ORACLE_HOME/admin/dbexport_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OG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TENTION_TIME_DAYS=&lt;number of days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RETENTION_TIME_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143000"/>
            <a:ext cx="777240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_LOG_TMP isn't needed for this script alone, but, since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log file is written to disk while the export is made, i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multiple export jobs are running, and they all use the same disk filenam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one script may remove the export log file for the other script. We 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e filename EXPORT_LOG_TMP so that on disk each script will have its 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log file to prevent any other scripts removing it before the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logfile is cat-ed to the overall export script 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_LOG_TMP=${LOGDIR}/EXPORT_LOG_TMP_${ORACLE_SID}_`date +\%m\%d\%Y_\%T`.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_LOG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_PIPE=EXPORT_PIPE_${ORACLE_SID}_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_PI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DIR=$ORACLE_HOME/admin/dbexport_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EXPORT=${EXPORTDIR}/DBEXPORT_${ORACLE_SID}_`date +\%m\%d\%Y_\%T`.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EXPORT_COMPRESSED=${DBEXPORT}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EXPORT_COMPRES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EXPORTLOG=${LOGDIR}/DBEXPORT_${ORACLE_SID}_`date +\%m\%d\%Y_\%T`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EXPORT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This is output from TAO DBA script dbexport' 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at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shell script environment for db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shell script environment for dbexport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cho ${ORACLE_OWNER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OWNER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HOME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EXPORTLOG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SID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SHRC_FILE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v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server mach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server machin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hostnam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ostnam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change directory to where the export file will be crea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efault is export followed by compr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needed, export directly to pipe to use less disk spa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uncomment the # lines bel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make full export...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cho 'make full export to pipe...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mknod /tmp/${EXPORT_PIPE} p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compress &lt; /tmp/${EXPORT_PIPE} &gt; '${DBEXPORT_COMPRESSED}' &amp;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${ORACLE_HOME}/bin/exp / full=y consistent=y direct=y BUFFER=10240000 file=/tmp/${EXPORT_PIPE} log=${EXPORT_LOG_TMP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${ORACLE_HOME}/bin/exp / full=y consistent=y direct=y BUFFER=10240000 file='${DBEXPORT}' log=${EXPORT_LOG_TMP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14300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at ${EXPORT_LOG_TMP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m ${EXPORT_LOG_TMP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rm /tmp/${EXPORT_PIPE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tart time of export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mknod /tmp/${EXPORT_PIPE} 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compress &lt; /tmp/${EXPORT_PIPE} &gt; ${DBEXPORT_COMPRESSED} &amp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${ORACLE_HOME}/bin/exp / full=y consistent=y direct=y BUFFER=10240000 file=/tmp/${EXPORT_PIPE} log=${EXPORT_LOG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ORACLE_HOME}/bin/exp / full=y consistent=y direct=y BUFFER=10240000 file=${DBEXPORT} log=${EXPORT_LOG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EXPORT_LOG_TMP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EXPORT_LOG_TMP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rm /tmp/${EXPORT_PIPE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.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EXPORT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exporting to pipe, no sense in compressing (again), sk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ll commands down to next 'if exporting to pipe' com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143000"/>
            <a:ext cx="77724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ompress '${DBEXPORT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mpress ${DBEXPORT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.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EXPORT_COMPRESSED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exporting to pipe -- end of commands to be commented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export log files...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{LOGDIR}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LOG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export log files older than '${RETENTION_TIME_DAYS}' days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143000"/>
            <a:ext cx="77724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EXPORT_${ORACLE_SID}_*.out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export export files...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{EXPORTDIR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export export files older than '${RETENTION_TIME_DAYS}' days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EXPORT_${ORACLE_SID}_*.exp*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143000"/>
            <a:ext cx="77724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of dbexport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SG='DBEXPORT for '`hostname`':'${ORACLE_SID}' '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mailx -s "${MSG}" ${NOTIFY_LIST} &l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nd of db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at Was Don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olution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ron job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xecute scripts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cripts to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backup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gather performance data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purge performance data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cripts output sent in emai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xecute statspack.snap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Gathers db performance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oesn’t process any of the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esn’t generate repo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oesn’t purge the older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!/bin/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is dbsttspck -- script to execute STATSPACK snapsho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etup environment parameters for the scri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S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OWNER=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$ORACLE_OW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HO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D_LIBRARY_PATH=$ORACLE_HOME/lib:/usr/lib:/usr/openwin/li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D_LIBRARY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ORACLE_HOME/bin/sqlplus perfstat/perfstat &lt;&lt; 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ecute statspack.sn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nd of dbsttsp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xports existing STATSPACK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ports PERFSTAT schema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ocuments existing snapsho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etermines which snapshots are older than retention interva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urges old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ecutes sppurge.sq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oesn’t purge SQL tex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3000"/>
            <a:ext cx="784872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!/bin/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is dbsttspck_rm -- script to remove STATSPA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able data older than a specified number of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ach time this script runs, it exports the PERFST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user schmea, then determines the snap_id values 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e range of snapshot data to be removed, wri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 file that contains the commands needed to execu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ppurge and then executes that 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cript removes export files older than XX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S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OWNER=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$ORACLE_OW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HO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TIFY_LIST='&lt;email address&gt;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OTIFY_LI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D_LIBRARY_PATH=$ORACLE_HOME/lib:/usr/lib:/usr/openwin/li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D_LIBRARY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LS_LANG=AMERICAN_AMERICA.US7ASCII, .WE8ISO8859P1, .UTF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LS_L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SHRC_FILE=~/.cshrc_&lt;SI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CSHRC_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OGDIR=$ORACLE_HOME/admin/dbsttspck_rm_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OG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TENTION_TIME_DAYS=&lt;number of days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RETENTION_TIME_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143000"/>
            <a:ext cx="784872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_LOG_TMP isn't needed for this script alone, but, since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log file is written to disk while the export is made, i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multiple export jobs are running, and they all use the same disk filenam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one script may remove the export log file for the other script. We 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e filename EXPORT_LOG_TMP so that on disk each script will have its 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log file to prevent any other scripts removing it before the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logfile is cat-ed to the overall export script 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_LOG_TMP=${LOGDIR}/EXPORT_LOG_TMP_${ORACLE_SID}_`date +\%m\%d\%Y_\%T`.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_LOG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_PIPE=EXPORT_PIPE_${ORACLE_SID}_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_PI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DIR=$ORACLE_HOME/admin/dbsttspck_rm_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QLPLUS_TMP=${LOGDIR}/SQLPLUS_TMP_${ORACLE_SID}_`date +\%m\%d\%Y_\%T`.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SQLPLUS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etup .sql file that will compute min, max, trunc_snap_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pagesize 0' 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feedback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heading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lect trim(min(snap_id)) from stats$snapshot;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t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N_SNAPID=`sqlplus -s perfstat/perfstat @${SQLPLUS_TMP}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143000"/>
            <a:ext cx="784872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pagesize 0' 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feedback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heading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lect trim(max(snap_id)) from stats$snapshot;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t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X_SNAPID=`sqlplus -s perfstat/perfstat @${SQLPLUS_TMP}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pagesize 0' 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feedback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heading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lect trim(max(snap_id)) from stats$snapshot where snap_time &lt; sysdate-'${RETENTION_TIME_DAYS}';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t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UNC_SNAPID=`sqlplus -s perfstat/perfstat @${SQLPLUS_TMP}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STTSPCK_RM=${EXPORTDIR}/DBSTTSPCK_RM_${ORACLE_SID}_${MIN_SNAPID}_${MAX_SNAPID}_`date +\%m\%d\%Y_\%T`.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STTSPCK_RM_COMPRESSED=${DBSTTSPCK_RM}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STTSPCK_RM_COMPRES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STTSPCK_RM_LOG=${LOGDIR}/DBSTTSPCK_RM_${ORACLE_SID}_`date +\%m\%d\%Y_\%T`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EXPORT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This is output from TAO DBA script dbsttspck_rm' 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at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s for this run of dbsttspck_rm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 of MIN_SNAPID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MIN_SNAPI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 of MAX_SNAPID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MAX_SNAPI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 of TRUNC_SNAPID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TRUNC_SNAPI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 of RETENTION_TIME_DAY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RETENTION_TIME_DAYS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shell script environment for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shell script environment for dbsttspck_rm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cho ${ORACLE_OWNER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OWNER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143000"/>
            <a:ext cx="784872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HOME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STTSPCK_RM_LOG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SI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SHRC_FILE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v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server mach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server machin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hostnam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ostnam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change directory to where the export file will be crea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efault is export followed by compr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needed, export directly to pipe to use less disk spa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uncomment the # lines bel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14300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port PERFSTAT schema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cho 'export PERFSTAT schema to pipe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mknod /tmp/${EXPORT_PIPE} p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compress &lt; /tmp/${EXPORT_PIPE} &gt; '${DBSTTSPCK_RM_COMPRESSED}' &amp;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${ORACLE_HOME}/bin/exp perfstat/perfstat owner=PERFSTAT file=/tmp/${EXPORT_PIPE} log=${EXPORT_LOG_TMP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${ORACLE_HOME}/bin/exp perfstat/perfstat owner=PERFSTAT file='${DBSTTSPCK_RM}' log=${EXPORT_LOG_TMP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at ${EXPORT_LOG_TMP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m ${EXPORT_LOG_TMP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rm /tmp/${EXPORT_PIPE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tart time of export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mknod /tmp/${EXPORT_PIPE} 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compress &lt; /tmp/${EXPORT_PIPE} &gt; ${DBSTTSPCK_RM_COMPRESSED} &amp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${ORACLE_HOME}/bin/exp perfstat/perfstat owner=PERFSTAT file=/tmp/${EXPORT_PIPE} log=${EXPORT_LOG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ORACLE_HOME}/bin/exp perfstat/perfstat owner=PERFSTAT file=${DBSTTSPCK_RM} log=${EXPORT_LOG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EXPORT_LOG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EXPORT_LOG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rm /tmp/${EXPORT_PIPE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143000"/>
            <a:ext cx="784872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time of export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.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STTSPCK_RM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exporting to pipe, no sense in compressing (again), sk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ll commands down to next 'if exporting to pipe' com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means you need to comment out all the lines down to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'if exporting to pipe' com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ompress export file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ompress '${DBSTTSPCK_RM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mpress ${DBSTTSPCK_RM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time of compression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quirements Satisfied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upport multiple databas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d new database machin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mail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ron (UNIX)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d new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stall cron scripts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rop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remove cron scripts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.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STTSPCK_RM_COMPRESSE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exporting to pipe -- end of commands to be commented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output info on existing snapsho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snapshot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ORACLE_HOME}/bin/sqlplus perfstat/perfstat &lt;&lt; 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termout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echo 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ool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o_char(sysdate,' dd Mon YYYY HH24:mi:ss') from dual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in(snap_id) from stats\$snapsho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ax(snap_id) from stats\$snapsho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ax(snap_id) from stats\$snapshot where snap_time &lt; sysdate-${RETENTION_TIME_DAYS}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name, snap_id, to_char(snap_time,' dd Mon YYYY HH24:mi:ss'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stats\$snapshot, v\$database order by snap_id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14300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est to see if truncation is need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${TRUNC_SNAPID} is not the null string, return true (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${TRUNC_SNAPID} is null, that means there aren't any snapshots th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re older than ${RETENTION_TIME_DAYS} and we don't want to execute sppu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f test ${TRUNC_SNAPID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Truncation Needed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runcate existing snapshot data to remove snapshots older than ${RETENTION_TIME_DAYS}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${ORACLE_HOME}/bin/sqlplus perfstat/perfstat &lt;&lt; EOF' 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@${ORACLE_HOME}/rdbms/admin/sppurge.sql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MIN_SNAPID}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TRUNC_SNAPID}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ommit;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O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hmod 744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14300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Purge existing STATSPACK data older than '${RETENTION_TIME_DAYS}' day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QL script to be executed to execute sppurg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tart time of sppurg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time of sppurg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not truncating snapshot data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143000"/>
            <a:ext cx="761976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No Truncation Needed -- TRUNC_SNAPID does not exist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nd of if then block for truncating snapshot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output info on remaining snapsho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aining snapshot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ORACLE_HOME}/bin/sqlplus perfstat/perfstat &lt;&lt; 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termout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echo 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ool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o_char(sysdate,' dd Mon YYYY HH24:mi:ss') from dual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in(snap_id) from stats\$snapsho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ax(snap_id) from stats\$snapsho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066680"/>
            <a:ext cx="784872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remove old log and export f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sttspck_rm log files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{LOGDIR}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LOG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sttspck_rm log files older than '${RETENTION_TIME_DAYS}' day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STTSPCK_RM_${ORACLE_SID}_*.out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143000"/>
            <a:ext cx="777240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sttspck_rm export files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{EXPORTDIR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sttspck_rm export files older than '${RETENTION_TIME_DAYS}' day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STTSPCK_RM_${ORACLE_SID}_*.exp*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of dbsttspck_rm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SG='DBSTTSPCK_RM for '`hostname`':'${ORACLE_SID}' '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mailx -s "${MSG}" ${NOTIFY_LIST} &l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nd of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sppurge.sq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ppurge doesn’t delete SQL tex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QL to do thi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n be resource intensiv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s in sppurge.sq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ommented out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xecute this SQL manuall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 un-comment in sppurge.sq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Installation Proces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219320"/>
            <a:ext cx="8229600" cy="51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b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doc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export_ex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export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sttspck_rm_ex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sttspck_rm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d $ORACLE_HOME/admin/b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p daylight.sfb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d A_My_Documents/DBA/b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t dbd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t db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t dbsttsp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t dbsttspck_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mod 744 dbd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mod 744 db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mod 744 dbsttsp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mod 744 dbsttspck_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 dbdoc dbdoc_&lt;SI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 dbexport dbeport_&lt;SI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 dbsttspck dbsttspck_&lt;SI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 dbsttspck_rm dbsttspck_rm_&lt;SI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Installation Proces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600200"/>
            <a:ext cx="792504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bdoc parameters to setup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Y_LIST=‘&lt;email address&gt;'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LS_LANG=AMERICAN_AMERICA.US7ASCII, .WE8ISO8859P1, .UTF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GDIR=$ORACLE_HOME/admin/dbdoc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ENTION_TIME_DAYS=&lt;number of days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BDOCLOG=${LOGDIR}/DBDOC_${ORACLE_SID}_`date +\%m\%d\%Y_\%T`.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HRC_FILE=~/.cshr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IT_FILE_PATH=$ORACLE_HOME/admin/p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DB_FILE_PATH=$ORACLE_HOME/admin/sq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STENER_PATH=$ORACLE_HOME/network/adm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NSNAMES_PATH=$ORACLE_HOME/admin/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tional dbexport parameters to setup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ORTDIR=$ORACLE_HOME/admin/dbexport_ex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GDIR=$ORACLE_HOME/admin/dbexport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Installation Proces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371600"/>
            <a:ext cx="7848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-&gt; note: dbexport uses '/' as the user/password for export -- if the 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configured with os_authent_prefix='OPS$' then you need to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QL in the crdb script to create the OPS$ORACLE user. The os_authent_pref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characters before the username must match (OPS$ and OPS$ORACLE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-&gt; to create the OPS$ORACLE u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eate user ops$oracle identified externally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nt dba to ops$oracl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er user ops$oracle temporary tablespace te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 /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@?/rdbms/admin/catdbsyn.sql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-&gt; need to install STATSPACK for the dbsttspck, dbsttspck_rm cron job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vrmgr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 inter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eate tablespace perfstat data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'/xxx/xxx/perfstat_01.dbf' size 75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tent management local uniform size 40K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d $ORACLE_HOME/rdbms/adm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qlplus s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@spcreate.sq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quirements Satisfied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latform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mail works everywher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ron (UNIX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mail viewer works on multiple platform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289160" indent="-21456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DBAs can b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3" marL="1611720" indent="-161280">
              <a:spcBef>
                <a:spcPts val="550"/>
              </a:spcBef>
              <a:buClr>
                <a:srgbClr val="ffffff"/>
              </a:buClr>
              <a:buFont typeface="Univer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local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3" marL="1611720" indent="-161280">
              <a:spcBef>
                <a:spcPts val="550"/>
              </a:spcBef>
              <a:buClr>
                <a:srgbClr val="ffffff"/>
              </a:buClr>
              <a:buFont typeface="Univer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remot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3" marL="1611720" indent="-161280">
              <a:spcBef>
                <a:spcPts val="550"/>
              </a:spcBef>
              <a:buClr>
                <a:srgbClr val="ffffff"/>
              </a:buClr>
              <a:buFont typeface="Univer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t hom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3" marL="1611720" indent="-161280">
              <a:spcBef>
                <a:spcPts val="550"/>
              </a:spcBef>
              <a:buClr>
                <a:srgbClr val="ffffff"/>
              </a:buClr>
              <a:buFont typeface="Univer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nywher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s in secure environm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rontab Entri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905120"/>
            <a:ext cx="784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 15 * * * /db/oracle/app/oracle/product/8.1.7/admin/bin/dbdoc_ISEDB &gt; /dev/null 2&gt;&amp;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0 15 * * * /db/oracle/app/oracle/product/8.1.7/admin/bin/dbexport_ISEDB &gt; /dev/null 2&gt;&amp;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 16 * * 0 /db/oracle/app/oracle/product/8.1.7/admin/bin/dbsttspck_rm_ISEDB &gt; /dev/null 2&gt;&amp;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,15,30,45 * * * * /db/oracle/app/oracle/product/8.1.7/admin/bin/dbsttspck_ISEDB &gt; /dev/null 2&gt;&amp;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 Vendor Independen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ame process used for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ybase databas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ySQL databas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odify cron scripts to use vendor specific SQL command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quirements Satisfied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atabase vendor independent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mail, cron scrip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n use commands for any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utput is simple tex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asy to modify to vendor specific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utputs provide written recor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mail backed up automaticall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Fre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r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Basic system utilities provided with the OS of a syste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 need to run any additional apps on the database machin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acle OEM needs ‘agent’ for some task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Darrin Swan</cp:lastModifiedBy>
  <cp:lastPrinted>2001-11-07T03:16:31Z</cp:lastPrinted>
  <dcterms:modified xsi:type="dcterms:W3CDTF">2003-08-25T18:23:42Z</dcterms:modified>
  <cp:revision>500</cp:revision>
  <dc:subject/>
  <dc:title>Jerry Held</dc:title>
</cp:coreProperties>
</file>