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sldImg"/>
          </p:nvPr>
        </p:nvSpPr>
        <p:spPr>
          <a:xfrm>
            <a:off x="0" y="694800"/>
            <a:ext cx="0" cy="0"/>
          </a:xfrm>
          <a:prstGeom prst="rect">
            <a:avLst/>
          </a:prstGeom>
          <a:noFill/>
          <a:ln w="0">
            <a:noFill/>
          </a:ln>
        </p:spPr>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4"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ea typeface="Arial"/>
              </a:rPr>
              <a:t>Datastor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tream starts with the datastore reading in the documents as they are stored in the system according to your datastore preference. For example, if you have defined your datastore as FILE_DATASTORE, the stream starts by reading the files from the operating system. You can also store you documents on the internet or in the Oracle databa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ea typeface="Arial"/>
              </a:rPr>
              <a:t>Filt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tream then passes through the filter. What happens here is determined by your FILTER preference. The stream can be acted upon in one of the following way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filtering takes place. This happens when you specify the NULL_FILTER preference type. Documents that are plain text, HTML, or XML need no filter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ted documents (binary) are filtered to marked-up text. This happens when you specify the INSO_FILTER preference typ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is converted from a non-database character set to the database character set. This happens when you specify CHARSET_FILTER preference ty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ea typeface="Arial"/>
              </a:rPr>
              <a:t>Section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ter being filtered, the marked-up text passes through the sectioner that separates the stream into text and section information. Section information includes where sections begin and end in the text stream. The type of sections extracted is determined by your section group ty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ection information is passed directly to the indexing engine which uses it later. The text is passed to the lex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ea typeface="Arial"/>
              </a:rPr>
              <a:t>Lex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lexer breaks the text into tokens according to your language. These tokens are usually words. To extract tokens, the lexer uses the parameters as defined in your lexer preference. These parameters include the definitions for the characters that separate tokens such as whitespace, and whether to convert the text to all uppercase or to leave it in mixed c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theme indexing is enabled, the lexer analyses your text to create theme tokens for index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ea typeface="Arial"/>
              </a:rPr>
              <a:t>Indexing Eng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indexing engine creates the inverted index that maps tokens to the documents that contain them. In this phase, Oracle uses the stoplist you specify to exclude stopwords or stopthemes from the index. Oracle also uses the parameters defined in your WORDLIST preference, which tell the system how to create a prefix index or substring index, if enab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F9C13-DB43-4585-87A9-503AB378A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5F51A-DF32-4A13-80C9-5AABABDF8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9F4CB-53EB-4CB3-AFCC-F31895950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212C0-3E85-471A-AA42-6C656EDF9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F237B8-E6F4-4043-9B63-6D94C248E3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333C0-EA95-4D56-A037-3320847FE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1198A-8CF4-421E-BCD5-E41DB5B79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6FD60-7152-4932-B203-C50A15F58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9B20B-9817-4A31-8051-FB2BB3E26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37D4B-D5D6-4432-8736-02E14FE58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265EF-F077-4B04-9A80-055626044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CF9C7-34E4-4F3D-A186-10F6BE7D5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0120D-F793-4100-9B6D-0CFA6D29D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52A1E-EE66-475D-9FD4-3797E1878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37ECA-42F6-4006-AC0D-10CE7B95D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69F069-0A9C-43D4-B6AC-1D17F5BAA8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BEDFEA-77CF-470E-99F4-0491C5CE44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73F7E-F75E-42CF-A817-1FA42A896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1F065-4647-4B84-B8D4-E49979D9A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AA336-518F-42FD-A608-F4A5E49C5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D9F61-6593-4BB9-BB40-49A6286EC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32418-B180-47F9-ACAC-2D1E74E51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A7C83-1106-4D68-A160-64D4B33A3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8BC1D-07F1-454C-B58A-A290A20B1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0720"/>
            <a:ext cx="8152920" cy="1599840"/>
            <a:chOff x="457200" y="990720"/>
            <a:chExt cx="8152920" cy="1599840"/>
          </a:xfrm>
        </p:grpSpPr>
        <p:sp>
          <p:nvSpPr>
            <p:cNvPr id="1" name=""/>
            <p:cNvSpPr/>
            <p:nvPr/>
          </p:nvSpPr>
          <p:spPr>
            <a:xfrm>
              <a:off x="2886480" y="99072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5FC6B-13FA-4DD2-88A3-F097E1C64380}"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2320"/>
            <a:ext cx="8152920" cy="1599840"/>
            <a:chOff x="457200" y="2362320"/>
            <a:chExt cx="8152920" cy="1599840"/>
          </a:xfrm>
        </p:grpSpPr>
        <p:sp>
          <p:nvSpPr>
            <p:cNvPr id="47" name=""/>
            <p:cNvSpPr/>
            <p:nvPr/>
          </p:nvSpPr>
          <p:spPr>
            <a:xfrm>
              <a:off x="2886480" y="236232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C765-79C0-4DEF-A8EF-58E9849DEEF8}"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racle Text</a:t>
            </a:r>
            <a:endParaRPr b="0" i="1" lang="en-US" sz="4400" spc="-1" strike="noStrike">
              <a:solidFill>
                <a:srgbClr val="ffcc66"/>
              </a:solidFill>
              <a:latin typeface="Times New Roman"/>
            </a:endParaRPr>
          </a:p>
        </p:txBody>
      </p:sp>
      <p:sp>
        <p:nvSpPr>
          <p:cNvPr id="96"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COUG Presentation</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gust 15, 2002</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Lexer</a:t>
            </a:r>
            <a:endParaRPr b="0" i="1" lang="en-US" sz="4400" spc="-1" strike="noStrike">
              <a:solidFill>
                <a:srgbClr val="ffcc66"/>
              </a:solidFill>
              <a:latin typeface="Times New Roman"/>
            </a:endParaRPr>
          </a:p>
        </p:txBody>
      </p:sp>
      <p:sp>
        <p:nvSpPr>
          <p:cNvPr id="11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The lexer breaks the text into tokens according to your language. These tokens are usually words.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To extract tokens, the lexer uses the parameters as defined in your lexer preference.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These parameters include the definitions for the characters that separate tokens such as whitespace, and whether to convert the text to all uppercase or to leave it in mixed case.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Types of Lexers</a:t>
            </a:r>
            <a:endParaRPr b="0" i="1" lang="en-US" sz="4400" spc="-1" strike="noStrike">
              <a:solidFill>
                <a:srgbClr val="ffcc66"/>
              </a:solidFill>
              <a:latin typeface="Times New Roman"/>
            </a:endParaRPr>
          </a:p>
        </p:txBody>
      </p:sp>
      <p:graphicFrame>
        <p:nvGraphicFramePr>
          <p:cNvPr id="116" name=""/>
          <p:cNvGraphicFramePr/>
          <p:nvPr/>
        </p:nvGraphicFramePr>
        <p:xfrm>
          <a:off x="685800" y="2057400"/>
          <a:ext cx="7772400" cy="4602240"/>
        </p:xfrm>
        <a:graphic>
          <a:graphicData uri="http://schemas.openxmlformats.org/drawingml/2006/table">
            <a:tbl>
              <a:tblPr/>
              <a:tblGrid>
                <a:gridCol w="3505320"/>
                <a:gridCol w="426708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ASIC_LEX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Lexer for extracting tokens from text in languages, such as English and most western European languages that use white space delimited words.</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82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ULTI_LEX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Lexer for indexing tables containing documents of different languages</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HINESE_VGRAM_LEX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r indexing Chinese text</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JAPANESE_VGRAM_LEXER</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JAPANESE_LEX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r indexing Japanese text</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0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KOREAN_LEXER</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KOREAN_MORPH_LEX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r indexing Korean text</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racle Text Indexes </a:t>
            </a:r>
            <a:endParaRPr b="0" i="1" lang="en-US" sz="4400" spc="-1" strike="noStrike">
              <a:solidFill>
                <a:srgbClr val="ffcc66"/>
              </a:solidFill>
              <a:latin typeface="Times New Roman"/>
            </a:endParaRPr>
          </a:p>
        </p:txBody>
      </p:sp>
      <p:graphicFrame>
        <p:nvGraphicFramePr>
          <p:cNvPr id="118" name=""/>
          <p:cNvGraphicFramePr/>
          <p:nvPr/>
        </p:nvGraphicFramePr>
        <p:xfrm>
          <a:off x="685800" y="2057400"/>
          <a:ext cx="7772400" cy="3292560"/>
        </p:xfrm>
        <a:graphic>
          <a:graphicData uri="http://schemas.openxmlformats.org/drawingml/2006/table">
            <a:tbl>
              <a:tblPr/>
              <a:tblGrid>
                <a:gridCol w="1828800"/>
                <a:gridCol w="1752480"/>
                <a:gridCol w="4191120"/>
              </a:tblGrid>
              <a:tr h="824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NTEXT</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tandard index</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raditional full-text retrieval over documents and web pages.  </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822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TXCAT</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atalog index</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rst text index designed specifically for eBusiness catalogs.</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4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TXRULE</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lassification index</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r building classification or routing applications.</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2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TXXPATH</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Xpath index</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mproves performance on Xpath searches on XML documents.</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   </a:t>
            </a:r>
            <a:r>
              <a:rPr b="0" i="1" lang="en-US" sz="3200" spc="-1" strike="noStrike">
                <a:solidFill>
                  <a:srgbClr val="ffcc66"/>
                </a:solidFill>
                <a:latin typeface="Times New Roman"/>
              </a:rPr>
              <a:t>Anatomy of the CONTEXT Index</a:t>
            </a:r>
            <a:endParaRPr b="0" i="1" lang="en-US" sz="3200" spc="-1" strike="noStrike">
              <a:solidFill>
                <a:srgbClr val="ffcc66"/>
              </a:solidFill>
              <a:latin typeface="Times New Roman"/>
            </a:endParaRPr>
          </a:p>
        </p:txBody>
      </p:sp>
      <p:sp>
        <p:nvSpPr>
          <p:cNvPr id="12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Oracle Text indexes text by converting all words into tokens. The general structure of an Oracle Text CONTEXT index is an inverted index where each token contains the list of documents (rows) that contain that token. </a:t>
            </a:r>
            <a:endParaRPr b="0" lang="en-US" sz="24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For example, after a single initial indexing operation, the word DOG might have an entry as follows:</a:t>
            </a:r>
            <a:r>
              <a:rPr b="0" lang="en-US" sz="3200" spc="-1" strike="noStrike">
                <a:solidFill>
                  <a:srgbClr val="ffffcc"/>
                </a:solidFill>
                <a:latin typeface="Times New Roman"/>
                <a:ea typeface="Times New Roman"/>
              </a:rPr>
              <a:t> </a:t>
            </a:r>
            <a:endParaRPr b="0" lang="en-US" sz="32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urier New"/>
                <a:ea typeface="Courier New"/>
              </a:rPr>
              <a:t>	</a:t>
            </a:r>
            <a:r>
              <a:rPr b="0" lang="en-US" sz="2400" spc="-1" strike="noStrike">
                <a:solidFill>
                  <a:srgbClr val="ffffcc"/>
                </a:solidFill>
                <a:latin typeface="Courier New"/>
                <a:ea typeface="Courier New"/>
              </a:rPr>
              <a:t>	</a:t>
            </a:r>
            <a:r>
              <a:rPr b="0" lang="en-US" sz="2400" spc="-1" strike="noStrike">
                <a:solidFill>
                  <a:srgbClr val="ffffcc"/>
                </a:solidFill>
                <a:latin typeface="Courier New"/>
                <a:ea typeface="Courier New"/>
              </a:rPr>
              <a:t>DOG DOC1 DOC3 DOC5</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This means that the word DOG is contained in the rows that store documents one, three and five.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3200" spc="-1" strike="noStrike">
                <a:solidFill>
                  <a:srgbClr val="ffcc66"/>
                </a:solidFill>
                <a:latin typeface="Times New Roman"/>
              </a:rPr>
              <a:t>Anatomy of the CONTEXT Index cont.</a:t>
            </a:r>
            <a:endParaRPr b="0" i="1" lang="en-US" sz="3200" spc="-1" strike="noStrike">
              <a:solidFill>
                <a:srgbClr val="ffcc66"/>
              </a:solidFill>
              <a:latin typeface="Times New Roman"/>
            </a:endParaRPr>
          </a:p>
        </p:txBody>
      </p:sp>
      <p:sp>
        <p:nvSpPr>
          <p:cNvPr id="122" name=""/>
          <p:cNvSpPr/>
          <p:nvPr/>
        </p:nvSpPr>
        <p:spPr>
          <a:xfrm>
            <a:off x="1714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23" name="ccapp011" descr="Text description of ccapp011.gif follows"/>
          <p:cNvPicPr/>
          <p:nvPr/>
        </p:nvPicPr>
        <p:blipFill>
          <a:blip r:embed="rId1"/>
          <a:stretch/>
        </p:blipFill>
        <p:spPr>
          <a:xfrm>
            <a:off x="838080" y="2057400"/>
            <a:ext cx="7620120" cy="457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Index Tables</a:t>
            </a:r>
            <a:endParaRPr b="0" i="1" lang="en-US" sz="4400" spc="-1" strike="noStrike">
              <a:solidFill>
                <a:srgbClr val="ffcc66"/>
              </a:solidFill>
              <a:latin typeface="Times New Roman"/>
            </a:endParaRPr>
          </a:p>
        </p:txBody>
      </p:sp>
      <p:sp>
        <p:nvSpPr>
          <p:cNvPr id="1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ASIC_STORAGE creates five index tables against each table indexed.</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graphicFrame>
        <p:nvGraphicFramePr>
          <p:cNvPr id="126" name=""/>
          <p:cNvGraphicFramePr/>
          <p:nvPr/>
        </p:nvGraphicFramePr>
        <p:xfrm>
          <a:off x="609480" y="2743200"/>
          <a:ext cx="7772400" cy="3890880"/>
        </p:xfrm>
        <a:graphic>
          <a:graphicData uri="http://schemas.openxmlformats.org/drawingml/2006/table">
            <a:tbl>
              <a:tblPr/>
              <a:tblGrid>
                <a:gridCol w="1524240"/>
                <a:gridCol w="6248160"/>
              </a:tblGrid>
              <a:tr h="119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R$…$I</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Index data table.  Includes all tokens that have been indexed, together with a binary representation of the documents they occur in, and their position in the documents.  Each document has an internal DOCID value.</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674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R$…$K</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Keymap table.  Index-Organized Table which maps internal DOCID values to external ROWID values.</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76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R$…$N</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Negative list table.  Contains a list of deleted DOCID values – used and cleaned up by the index optimization process.</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74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R$…$P</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arameter clause for the substring index if you have enabled SUBSTRING_INDEX in the BASIC_WORDLIST.</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75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R$…$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ROWID table. The reverse of the K table – fetching ROWID when you know the DOCID.</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Storage Location Options</a:t>
            </a:r>
            <a:endParaRPr b="0" i="1" lang="en-US" sz="4400" spc="-1" strike="noStrike">
              <a:solidFill>
                <a:srgbClr val="ffcc66"/>
              </a:solidFill>
              <a:latin typeface="Times New Roman"/>
            </a:endParaRPr>
          </a:p>
        </p:txBody>
      </p:sp>
      <p:sp>
        <p:nvSpPr>
          <p:cNvPr id="12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atabase – Index any text or lob column up to 4 Gig</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RL Reference – Text that can be referenced by a URL on any internet or intranet site</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le System – Any supported document type stored on a file system accessible from the db server</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er-Defined – Index the output of a PL/SQL procedur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CONTEXT Supported Datatypes</a:t>
            </a:r>
            <a:endParaRPr b="0" i="1" lang="en-US" sz="4400" spc="-1" strike="noStrike">
              <a:solidFill>
                <a:srgbClr val="ffcc66"/>
              </a:solidFill>
              <a:latin typeface="Times New Roman"/>
            </a:endParaRPr>
          </a:p>
        </p:txBody>
      </p:sp>
      <p:sp>
        <p:nvSpPr>
          <p:cNvPr id="13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You can create a CONTEXT index with columns of the following types:</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ARCHAR2</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LOB</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LOB</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AR</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FILE</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XMLTyp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Index Maintenance</a:t>
            </a:r>
            <a:endParaRPr b="0" i="1" lang="en-US" sz="4400" spc="-1" strike="noStrike">
              <a:solidFill>
                <a:srgbClr val="ffcc66"/>
              </a:solidFill>
              <a:latin typeface="Times New Roman"/>
            </a:endParaRPr>
          </a:p>
        </p:txBody>
      </p:sp>
      <p:sp>
        <p:nvSpPr>
          <p:cNvPr id="13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Index maintenance is necessary after DML operations in your base table. </a:t>
            </a: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If your base table is static, you do not need to maintain your index. </a:t>
            </a: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You can synchronize your index manually with CTX_DDL.SYNC_INDEX. </a:t>
            </a:r>
            <a:endParaRPr b="0" lang="en-US" sz="20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The following example synchronizes the index </a:t>
            </a:r>
            <a:r>
              <a:rPr b="0" lang="en-US" sz="2000" spc="-1" strike="noStrike">
                <a:solidFill>
                  <a:srgbClr val="ffffcc"/>
                </a:solidFill>
                <a:latin typeface="Courier New"/>
                <a:ea typeface="Courier New"/>
              </a:rPr>
              <a:t>myindex</a:t>
            </a:r>
            <a:r>
              <a:rPr b="0" lang="en-US" sz="2000" spc="-1" strike="noStrike">
                <a:solidFill>
                  <a:srgbClr val="ffffcc"/>
                </a:solidFill>
                <a:latin typeface="Times New Roman"/>
                <a:ea typeface="Times New Roman"/>
              </a:rPr>
              <a:t> with 2 megabytes of memory: </a:t>
            </a:r>
            <a:endParaRPr b="0" lang="en-US" sz="20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ea typeface="Courier New"/>
              </a:rPr>
              <a:t>	</a:t>
            </a:r>
            <a:r>
              <a:rPr b="0" lang="en-US" sz="1800" spc="-1" strike="noStrike">
                <a:solidFill>
                  <a:srgbClr val="ffffcc"/>
                </a:solidFill>
                <a:latin typeface="Courier New"/>
                <a:ea typeface="Courier New"/>
              </a:rPr>
              <a:t>begin </a:t>
            </a: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ctx_ddl.sync_index('myindex', '2M'); </a:t>
            </a: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end;</a:t>
            </a:r>
            <a:r>
              <a:rPr b="0" lang="en-US" sz="1800" spc="-1" strike="noStrike">
                <a:solidFill>
                  <a:srgbClr val="ffffcc"/>
                </a:solidFill>
                <a:latin typeface="Courier New"/>
              </a:rPr>
              <a:t> </a:t>
            </a:r>
            <a:endParaRPr b="0" lang="en-US" sz="18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If you synchronize your index regularly, you might also consider optimizing your index to reduce fragmentation and to remove old data.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ries - Quality of Results</a:t>
            </a:r>
            <a:endParaRPr b="0" i="1" lang="en-US" sz="4400" spc="-1" strike="noStrike">
              <a:solidFill>
                <a:srgbClr val="ffcc66"/>
              </a:solidFill>
              <a:latin typeface="Times New Roman"/>
            </a:endParaRPr>
          </a:p>
        </p:txBody>
      </p:sp>
      <p:sp>
        <p:nvSpPr>
          <p:cNvPr id="13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egration and speed mean nothing if the results are inaccurat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xt searching must allow for mistakes by the user, and understand what the user intended by their quer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xample: Website should return the same results as Web Sit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ession Objectives</a:t>
            </a:r>
            <a:endParaRPr b="0" i="1" lang="en-US" sz="4400" spc="-1" strike="noStrike">
              <a:solidFill>
                <a:srgbClr val="ffcc66"/>
              </a:solidFill>
              <a:latin typeface="Times New Roman"/>
            </a:endParaRPr>
          </a:p>
        </p:txBody>
      </p:sp>
      <p:sp>
        <p:nvSpPr>
          <p:cNvPr id="9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view Oracle Text basic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dex Option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pare Oracle Text with interMedia and ConTex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bs - create different kinds of indexes, see what the database looks like, and query to see the impact of each chang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Supported Types of Searches</a:t>
            </a:r>
            <a:endParaRPr b="0" i="1" lang="en-US" sz="4400" spc="-1" strike="noStrike">
              <a:solidFill>
                <a:srgbClr val="ffcc66"/>
              </a:solidFill>
              <a:latin typeface="Times New Roman"/>
            </a:endParaRPr>
          </a:p>
        </p:txBody>
      </p:sp>
      <p:graphicFrame>
        <p:nvGraphicFramePr>
          <p:cNvPr id="136" name=""/>
          <p:cNvGraphicFramePr/>
          <p:nvPr/>
        </p:nvGraphicFramePr>
        <p:xfrm>
          <a:off x="685800" y="2057400"/>
          <a:ext cx="7772400" cy="4022640"/>
        </p:xfrm>
        <a:graphic>
          <a:graphicData uri="http://schemas.openxmlformats.org/drawingml/2006/table">
            <a:tbl>
              <a:tblPr/>
              <a:tblGrid>
                <a:gridCol w="3886200"/>
                <a:gridCol w="3886200"/>
              </a:tblGrid>
              <a:tr h="68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Exact Match</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Enter one or more keywords that are contained in the document</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68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Word Positioning</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Search for a phrase, words near each other, or words in the same sentence</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Inexact Match</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Fuzzy, soundex, auto-stem, auto-wild, and thesaurus searches</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Intelligent Match</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Search on themes of documents while ignoring noise words</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457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oolean Combinations</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Use of AND, OR and NOT</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2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Relevance Ranking</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Sort results according to how well the text matches the search criteria</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Text Management</a:t>
            </a:r>
            <a:endParaRPr b="0" i="1" lang="en-US" sz="4400" spc="-1" strike="noStrike">
              <a:solidFill>
                <a:srgbClr val="ffcc66"/>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arch by theme – find documents ‘about’ something</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t the gist of a document – what sentences or paragraphs contribute most to the them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oad a custom thesaurus to improve search and theme extraction (example: auto manufacturing company loading a thesaurus containing standard term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ociate terms to catalog items to have those items return, even when the associated terms do not exist in the indexed record itself</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Query Overview</a:t>
            </a:r>
            <a:endParaRPr b="0" i="1" lang="en-US" sz="4400" spc="-1" strike="noStrike">
              <a:solidFill>
                <a:srgbClr val="ffcc66"/>
              </a:solidFill>
              <a:latin typeface="Times New Roman"/>
            </a:endParaRPr>
          </a:p>
        </p:txBody>
      </p:sp>
      <p:sp>
        <p:nvSpPr>
          <p:cNvPr id="14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Oracle returns all documents (previously indexed) that satisfy the expression along with a relevance score for each document. Scores can be used to order the documents in the result set.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To issue an Oracle Text query, use the SQL SELECT statement with either the CONTAINS or CATSEARCH operator. You can use these operators programatically wherever you can use the SELECT statement, such as in PL/SQL cursors.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se the MATCHES operator to classify documents with a CTXRULE index.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Querying with CONTAINS</a:t>
            </a:r>
            <a:endParaRPr b="0" i="1" lang="en-US" sz="4400" spc="-1" strike="noStrike">
              <a:solidFill>
                <a:srgbClr val="ffcc66"/>
              </a:solidFill>
              <a:latin typeface="Times New Roman"/>
            </a:endParaRPr>
          </a:p>
        </p:txBody>
      </p:sp>
      <p:sp>
        <p:nvSpPr>
          <p:cNvPr id="14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When you create an index of type </a:t>
            </a:r>
            <a:r>
              <a:rPr b="0" lang="en-US" sz="2800" spc="-1" strike="noStrike">
                <a:solidFill>
                  <a:srgbClr val="ffffcc"/>
                </a:solidFill>
                <a:latin typeface="Courier New"/>
                <a:ea typeface="Courier New"/>
              </a:rPr>
              <a:t>context</a:t>
            </a:r>
            <a:r>
              <a:rPr b="0" lang="en-US" sz="2800" spc="-1" strike="noStrike">
                <a:solidFill>
                  <a:srgbClr val="ffffcc"/>
                </a:solidFill>
                <a:latin typeface="Times New Roman"/>
                <a:ea typeface="Times New Roman"/>
              </a:rPr>
              <a:t>, you must use the CONTAINS operator to issue your query. </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With the CONTAINS operator, you can use a number of operators to define your search criteria. These operators enable you to issue logical, proximity, fuzzy, stemming, thesaurus and wildcard searches. </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With CONTAINS, you can also use the ABOUT operator to search on document themes.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CONTAINS Example</a:t>
            </a:r>
            <a:endParaRPr b="0" i="1" lang="en-US" sz="4400" spc="-1" strike="noStrike">
              <a:solidFill>
                <a:srgbClr val="ffcc66"/>
              </a:solidFill>
              <a:latin typeface="Times New Roman"/>
            </a:endParaRPr>
          </a:p>
        </p:txBody>
      </p:sp>
      <p:sp>
        <p:nvSpPr>
          <p:cNvPr id="14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In the SELECT statement, specify the query in the WHERE clause with the CONTAINS operator. Also specify the SCORE operator to return the score of each hit in the hitlist. </a:t>
            </a:r>
            <a:endParaRPr b="0" lang="en-US" sz="2000" spc="-1" strike="noStrike">
              <a:solidFill>
                <a:srgbClr val="ffffcc"/>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The following example shows how to issue a query: </a:t>
            </a:r>
            <a:endParaRPr b="0" lang="en-US" sz="2000" spc="-1" strike="noStrike">
              <a:solidFill>
                <a:srgbClr val="ffffcc"/>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SELECT SCORE(1), title </a:t>
            </a:r>
            <a:endParaRPr b="0" lang="en-US" sz="2000" spc="-1" strike="noStrike">
              <a:solidFill>
                <a:srgbClr val="ffffcc"/>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FROM news </a:t>
            </a:r>
            <a:endParaRPr b="0" lang="en-US" sz="2000" spc="-1" strike="noStrike">
              <a:solidFill>
                <a:srgbClr val="ffffcc"/>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WHERE CONTAINS(text, 'oracle', 1) &gt; 0; </a:t>
            </a:r>
            <a:r>
              <a:rPr b="0" lang="en-US" sz="2000" spc="-1" strike="noStrike">
                <a:solidFill>
                  <a:srgbClr val="ffffcc"/>
                </a:solidFill>
                <a:latin typeface="Times New Roman"/>
              </a:rPr>
              <a:t> </a:t>
            </a:r>
            <a:endParaRPr b="0" lang="en-US" sz="2000" spc="-1" strike="noStrike">
              <a:solidFill>
                <a:srgbClr val="ffffcc"/>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You can order the results from the highest scoring documents to the lowest scoring documents using the ORDER BY clause as follows: </a:t>
            </a:r>
            <a:endParaRPr b="0" lang="en-US" sz="2000" spc="-1" strike="noStrike">
              <a:solidFill>
                <a:srgbClr val="ffffcc"/>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ea typeface="Courier New"/>
              </a:rPr>
              <a:t>	</a:t>
            </a:r>
            <a:r>
              <a:rPr b="0" lang="en-US" sz="2000" spc="-1" strike="noStrike">
                <a:solidFill>
                  <a:srgbClr val="ffffcc"/>
                </a:solidFill>
                <a:latin typeface="Courier New"/>
                <a:ea typeface="Courier New"/>
              </a:rPr>
              <a:t>SELECT SCORE(1), title </a:t>
            </a:r>
            <a:endParaRPr b="0" lang="en-US" sz="2000" spc="-1" strike="noStrike">
              <a:solidFill>
                <a:srgbClr val="ffffcc"/>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FROM news</a:t>
            </a:r>
            <a:endParaRPr b="0" lang="en-US" sz="2000" spc="-1" strike="noStrike">
              <a:solidFill>
                <a:srgbClr val="ffffcc"/>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WHERE CONTAINS(text, 'oracle', 1) &gt; 0          </a:t>
            </a:r>
            <a:endParaRPr b="0" lang="en-US" sz="2000" spc="-1" strike="noStrike">
              <a:solidFill>
                <a:srgbClr val="ffffcc"/>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ORDER BY SCORE(1) DESC;</a:t>
            </a:r>
            <a:r>
              <a:rPr b="0" lang="en-US" sz="2000" spc="-1" strike="noStrike">
                <a:solidFill>
                  <a:srgbClr val="ffffcc"/>
                </a:solidFill>
                <a:latin typeface="Courier New"/>
              </a:rPr>
              <a:t> </a:t>
            </a:r>
            <a:endParaRPr b="0" lang="en-US" sz="2000" spc="-1" strike="noStrike">
              <a:solidFill>
                <a:srgbClr val="ffffcc"/>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Querying with CATSEARCH</a:t>
            </a:r>
            <a:endParaRPr b="0" i="1" lang="en-US" sz="4400" spc="-1" strike="noStrike">
              <a:solidFill>
                <a:srgbClr val="ffcc66"/>
              </a:solidFill>
              <a:latin typeface="Times New Roman"/>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When you create an index of type </a:t>
            </a:r>
            <a:r>
              <a:rPr b="0" lang="en-US" sz="2400" spc="-1" strike="noStrike">
                <a:solidFill>
                  <a:srgbClr val="ffffcc"/>
                </a:solidFill>
                <a:latin typeface="Courier New"/>
                <a:ea typeface="Courier New"/>
              </a:rPr>
              <a:t>ctxcat</a:t>
            </a:r>
            <a:r>
              <a:rPr b="0" lang="en-US" sz="2400" spc="-1" strike="noStrike">
                <a:solidFill>
                  <a:srgbClr val="ffffcc"/>
                </a:solidFill>
                <a:latin typeface="Times New Roman"/>
                <a:ea typeface="Times New Roman"/>
              </a:rPr>
              <a:t>, you must use the CATSEARCH operator to issue your query.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The operators available for CATSEARCH queries are limited to logical operations such as AND or OR. The operators you can use to define your structured criteria are greater than, less than, equality, BETWEEN, and IN.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 typical query with CATSEARCH : </a:t>
            </a:r>
            <a:endParaRPr b="0" lang="en-US" sz="24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SELECT FROM auction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WHERE CATSEARCH(title, 'camera',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order by bid_close desc')&gt; 0;</a:t>
            </a:r>
            <a:r>
              <a:rPr b="0" lang="en-US" sz="2000" spc="-1" strike="noStrike">
                <a:solidFill>
                  <a:srgbClr val="ffffcc"/>
                </a:solidFill>
                <a:latin typeface="Courier New"/>
                <a:ea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Oracle Ultra Search</a:t>
            </a:r>
            <a:endParaRPr b="0" i="1" lang="en-US" sz="4400" spc="-1" strike="noStrike">
              <a:solidFill>
                <a:srgbClr val="ffcc66"/>
              </a:solidFill>
              <a:latin typeface="Times New Roman"/>
            </a:endParaRPr>
          </a:p>
        </p:txBody>
      </p:sp>
      <p:sp>
        <p:nvSpPr>
          <p:cNvPr id="14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ltra Search is a new search application built on top of Oracle Text.  It offer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niform search in a database, on the internet or in an applicatio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rawling, indexing and making searchable and entire corporate intrane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rowser-based administration interfac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ultilingual Features</a:t>
            </a:r>
            <a:endParaRPr b="0" i="1" lang="en-US" sz="4400" spc="-1" strike="noStrike">
              <a:solidFill>
                <a:srgbClr val="ffcc66"/>
              </a:solidFill>
              <a:latin typeface="Times New Roman"/>
            </a:endParaRPr>
          </a:p>
        </p:txBody>
      </p:sp>
      <p:sp>
        <p:nvSpPr>
          <p:cNvPr id="15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l NLS character sets supporte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arch across documents in western languages, as well as Korean, Japanese, Traditional, and Simplified Chines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nguage specific features to accommodate the language’s unique characteristic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ross language search</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New Korean Lexer</a:t>
            </a:r>
            <a:endParaRPr b="0" i="1" lang="en-US" sz="4400" spc="-1" strike="noStrike">
              <a:solidFill>
                <a:srgbClr val="ffcc66"/>
              </a:solidFill>
              <a:latin typeface="Times New Roman"/>
            </a:endParaRPr>
          </a:p>
        </p:txBody>
      </p:sp>
      <p:sp>
        <p:nvSpPr>
          <p:cNvPr id="15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new and improved KOREAN_MORPH_LEXER offers the following benefits over the KOREAN_LEXER:</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etter analysis of Korean tex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aster indexing</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maller indexe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re accurate query searching</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New Japanese Lexer</a:t>
            </a:r>
            <a:endParaRPr b="0" i="1" lang="en-US" sz="4400" spc="-1" strike="noStrike">
              <a:solidFill>
                <a:srgbClr val="ffcc66"/>
              </a:solidFill>
              <a:latin typeface="Times New Roman"/>
            </a:endParaRPr>
          </a:p>
        </p:txBody>
      </p:sp>
      <p:sp>
        <p:nvSpPr>
          <p:cNvPr id="15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racle continues to improve the search quality against Japanese text with the JAPANESE_LEXER.  The new Oracle Text indexing has the following benefits over the JAPANESE_VGRAM_LEXER:</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maller index is generated</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etter query response time</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nerates real word tokens resulting in better query precision</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ecause a new algorithm is used to generate tokens, indexing time is longer with the new lexer, but quality of results is better</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verview</a:t>
            </a:r>
            <a:endParaRPr b="0" i="1" lang="en-US" sz="4400" spc="-1" strike="noStrike">
              <a:solidFill>
                <a:srgbClr val="ffcc66"/>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Oracle Text adds text search and intelligent text management to 9i.  It is included with both 9i Enterprise and Standard editions, and is selected as an option at db creation.</a:t>
            </a:r>
            <a:endParaRPr b="0" lang="en-US" sz="2600" spc="-1" strike="noStrike">
              <a:solidFill>
                <a:srgbClr val="ffffcc"/>
              </a:solidFill>
              <a:latin typeface="Times New Roman"/>
            </a:endParaRPr>
          </a:p>
          <a:p>
            <a:pPr marL="343080" indent="-343080">
              <a:lnSpc>
                <a:spcPct val="9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It supports more than 150 document formats including MS Office file formats, Adobe PDF, HTML and XML.</a:t>
            </a:r>
            <a:endParaRPr b="0" lang="en-US" sz="2600" spc="-1" strike="noStrike">
              <a:solidFill>
                <a:srgbClr val="ffffcc"/>
              </a:solidFill>
              <a:latin typeface="Times New Roman"/>
            </a:endParaRPr>
          </a:p>
          <a:p>
            <a:pPr marL="343080" indent="-343080">
              <a:lnSpc>
                <a:spcPct val="9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Searches across documents in western languages (English, French, Spanish, etc.) as well as Japanese, Korean, Traditional and Simplified Chinese.</a:t>
            </a: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Japanese Lexer Example</a:t>
            </a:r>
            <a:endParaRPr b="0" i="1" lang="en-US" sz="4400" spc="-1" strike="noStrike">
              <a:solidFill>
                <a:srgbClr val="ffcc66"/>
              </a:solidFill>
              <a:latin typeface="Times New Roman"/>
            </a:endParaRPr>
          </a:p>
        </p:txBody>
      </p:sp>
      <p:sp>
        <p:nvSpPr>
          <p:cNvPr id="156" name=""/>
          <p:cNvSpPr/>
          <p:nvPr/>
        </p:nvSpPr>
        <p:spPr>
          <a:xfrm>
            <a:off x="609480" y="2057400"/>
            <a:ext cx="8153640" cy="384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ea typeface="Times New Roman"/>
              </a:rPr>
              <a:t>When you specify JAPANESE_LEXER for creating text index, the JAPANESE_LEXER resolves a sentence into words. </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ea typeface="Times New Roman"/>
              </a:rPr>
              <a:t>For example, the following compound word (natural language institute):</a:t>
            </a:r>
            <a:br>
              <a:rPr sz="1200"/>
            </a:b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ea typeface="Times New Roman"/>
              </a:rPr>
              <a:t>is indexed as three tokens: </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ea typeface="Times New Roman"/>
              </a:rPr>
              <a:t>In order to resolve a sentence into words, the internal dictionary is referenced. When a word cannot be found in the internal dictionary, Oracle uses the JAPANESE_VGRAM_LEXER to resolve it. </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157" name="jap_befo" descr="Text description of jap_befo.gif follows."/>
          <p:cNvPicPr/>
          <p:nvPr/>
        </p:nvPicPr>
        <p:blipFill>
          <a:blip r:embed="rId1"/>
          <a:stretch/>
        </p:blipFill>
        <p:spPr>
          <a:xfrm>
            <a:off x="1371600" y="3048120"/>
            <a:ext cx="2057400" cy="485640"/>
          </a:xfrm>
          <a:prstGeom prst="rect">
            <a:avLst/>
          </a:prstGeom>
          <a:ln w="0">
            <a:noFill/>
          </a:ln>
        </p:spPr>
      </p:pic>
      <p:pic>
        <p:nvPicPr>
          <p:cNvPr id="158" name="jap_afte" descr="Text description of jap_afte.gif follows."/>
          <p:cNvPicPr/>
          <p:nvPr/>
        </p:nvPicPr>
        <p:blipFill>
          <a:blip r:embed="rId2"/>
          <a:stretch/>
        </p:blipFill>
        <p:spPr>
          <a:xfrm>
            <a:off x="1371600" y="4114800"/>
            <a:ext cx="2762280" cy="409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   </a:t>
            </a:r>
            <a:r>
              <a:rPr b="0" i="1" lang="en-US" sz="3600" spc="-1" strike="noStrike">
                <a:solidFill>
                  <a:srgbClr val="ffcc66"/>
                </a:solidFill>
                <a:latin typeface="Times New Roman"/>
              </a:rPr>
              <a:t>How Do We Index Multiple Languages?</a:t>
            </a:r>
            <a:endParaRPr b="0" i="1" lang="en-US" sz="3600" spc="-1" strike="noStrike">
              <a:solidFill>
                <a:srgbClr val="ffcc66"/>
              </a:solidFill>
              <a:latin typeface="Times New Roman"/>
            </a:endParaRPr>
          </a:p>
        </p:txBody>
      </p:sp>
      <p:sp>
        <p:nvSpPr>
          <p:cNvPr id="1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e MULTI_LEXER to index text columns that contain documents of different languag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ows you to perform searches against a single table storing data with multiple languages – a necessity for many online eBusiness catalogs and search engin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uring indexing, the MULTI_LEXER examines each row’s language column value and switches in the language-specific lexer to process the documen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MULTI_LEXER Example</a:t>
            </a:r>
            <a:endParaRPr b="0" i="1" lang="en-US" sz="4400" spc="-1" strike="noStrike">
              <a:solidFill>
                <a:srgbClr val="ffcc66"/>
              </a:solidFill>
              <a:latin typeface="Times New Roman"/>
            </a:endParaRPr>
          </a:p>
        </p:txBody>
      </p:sp>
      <p:sp>
        <p:nvSpPr>
          <p:cNvPr id="16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Create the multi-language table with a primary key, a text column, and a language column as follows: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create table globaldoc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doc_id number primary key,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lang varchar2(3),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	</a:t>
            </a:r>
            <a:r>
              <a:rPr b="0" lang="en-US" sz="2000" spc="-1" strike="noStrike">
                <a:solidFill>
                  <a:srgbClr val="ffffcc"/>
                </a:solidFill>
                <a:latin typeface="Courier New"/>
                <a:ea typeface="Courier New"/>
              </a:rPr>
              <a:t>text clob);</a:t>
            </a:r>
            <a:r>
              <a:rPr b="0" lang="en-US" sz="2000" spc="-1" strike="noStrike">
                <a:solidFill>
                  <a:srgbClr val="ffffcc"/>
                </a:solidFill>
                <a:latin typeface="Courier New"/>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MULTI_LEXER Example cont.</a:t>
            </a:r>
            <a:endParaRPr b="0" i="1" lang="en-US" sz="4400" spc="-1" strike="noStrike">
              <a:solidFill>
                <a:srgbClr val="ffcc66"/>
              </a:solidFill>
              <a:latin typeface="Times New Roman"/>
            </a:endParaRPr>
          </a:p>
        </p:txBody>
      </p:sp>
      <p:sp>
        <p:nvSpPr>
          <p:cNvPr id="164" name="PlaceHolder 2"/>
          <p:cNvSpPr>
            <a:spLocks noGrp="1"/>
          </p:cNvSpPr>
          <p:nvPr>
            <p:ph/>
          </p:nvPr>
        </p:nvSpPr>
        <p:spPr>
          <a:xfrm>
            <a:off x="304920" y="2057400"/>
            <a:ext cx="8610480" cy="4114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ea typeface="Times New Roman"/>
              </a:rPr>
              <a:t>Assume that the table holds mostly English documents, with the occasional German or Japanese document. To handle the three languages, you must create three sub-lexers, one for English, one for German, and one for Japanese: </a:t>
            </a:r>
            <a:endParaRPr b="0" lang="en-US" sz="1800" spc="-1" strike="noStrike">
              <a:solidFill>
                <a:srgbClr val="ffffcc"/>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ourier New"/>
                <a:ea typeface="Courier New"/>
              </a:rPr>
              <a:t>ctx_ddl.</a:t>
            </a:r>
            <a:r>
              <a:rPr b="1" lang="en-US" sz="1600" spc="-1" strike="noStrike">
                <a:solidFill>
                  <a:srgbClr val="ffffcc"/>
                </a:solidFill>
                <a:latin typeface="Courier New"/>
                <a:ea typeface="Courier New"/>
              </a:rPr>
              <a:t>create_preference</a:t>
            </a:r>
            <a:r>
              <a:rPr b="0" lang="en-US" sz="1600" spc="-1" strike="noStrike">
                <a:solidFill>
                  <a:srgbClr val="ffffcc"/>
                </a:solidFill>
                <a:latin typeface="Courier New"/>
                <a:ea typeface="Courier New"/>
              </a:rPr>
              <a:t>('english_lexer','basic_lexer');</a:t>
            </a:r>
            <a:endParaRPr b="0" lang="en-US" sz="16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ourier New"/>
                <a:ea typeface="Courier New"/>
              </a:rPr>
              <a:t>ctx_ddl.set_attribute('english_lexer','index_themes','yes');</a:t>
            </a:r>
            <a:endParaRPr b="0" lang="en-US" sz="16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ourier New"/>
                <a:ea typeface="Courier New"/>
              </a:rPr>
              <a:t>ctx_ddl.set_attribute('english_lexer','theme_language','english'); </a:t>
            </a:r>
            <a:endParaRPr b="0" lang="en-US" sz="16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ourier New"/>
                <a:ea typeface="Courier New"/>
              </a:rPr>
              <a:t>ctx_ddl.</a:t>
            </a:r>
            <a:r>
              <a:rPr b="1" lang="en-US" sz="1600" spc="-1" strike="noStrike">
                <a:solidFill>
                  <a:srgbClr val="ffffcc"/>
                </a:solidFill>
                <a:latin typeface="Courier New"/>
                <a:ea typeface="Courier New"/>
              </a:rPr>
              <a:t>create_preference</a:t>
            </a:r>
            <a:r>
              <a:rPr b="0" lang="en-US" sz="1600" spc="-1" strike="noStrike">
                <a:solidFill>
                  <a:srgbClr val="ffffcc"/>
                </a:solidFill>
                <a:latin typeface="Courier New"/>
                <a:ea typeface="Courier New"/>
              </a:rPr>
              <a:t>('german_lexer','basic_lexer');</a:t>
            </a:r>
            <a:endParaRPr b="0" lang="en-US" sz="16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ourier New"/>
                <a:ea typeface="Courier New"/>
              </a:rPr>
              <a:t>ctx_ddl.set_attribute('german_lexer','composite','german');</a:t>
            </a:r>
            <a:endParaRPr b="0" lang="en-US" sz="16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ourier New"/>
                <a:ea typeface="Courier New"/>
              </a:rPr>
              <a:t>ctx_ddl.set_attribute('german_lexer','mixed_case','yes');</a:t>
            </a:r>
            <a:endParaRPr b="0" lang="en-US" sz="16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ourier New"/>
                <a:ea typeface="Courier New"/>
              </a:rPr>
              <a:t>ctx_ddl.set_attribute('german_lexer','alternate_spelling','german');</a:t>
            </a:r>
            <a:endParaRPr b="0" lang="en-US" sz="16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ourier New"/>
                <a:ea typeface="Courier New"/>
              </a:rPr>
              <a:t>ctx_ddl.</a:t>
            </a:r>
            <a:r>
              <a:rPr b="1" lang="en-US" sz="1600" spc="-1" strike="noStrike">
                <a:solidFill>
                  <a:srgbClr val="ffffcc"/>
                </a:solidFill>
                <a:latin typeface="Courier New"/>
                <a:ea typeface="Courier New"/>
              </a:rPr>
              <a:t>create_preference</a:t>
            </a:r>
            <a:r>
              <a:rPr b="0" lang="en-US" sz="1600" spc="-1" strike="noStrike">
                <a:solidFill>
                  <a:srgbClr val="ffffcc"/>
                </a:solidFill>
                <a:latin typeface="Courier New"/>
                <a:ea typeface="Courier New"/>
              </a:rPr>
              <a:t>('japanese_lexer','japanese_vgram_lexer');</a:t>
            </a:r>
            <a:r>
              <a:rPr b="0" lang="en-US" sz="1600" spc="-1" strike="noStrike">
                <a:solidFill>
                  <a:srgbClr val="ffffcc"/>
                </a:solidFill>
                <a:latin typeface="Courier New"/>
                <a:ea typeface="Times New Roman"/>
              </a:rPr>
              <a:t> </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MULTI_LEXER Example cont.</a:t>
            </a:r>
            <a:endParaRPr b="0" i="1" lang="en-US" sz="4400" spc="-1" strike="noStrike">
              <a:solidFill>
                <a:srgbClr val="ffcc66"/>
              </a:solidFill>
              <a:latin typeface="Times New Roman"/>
            </a:endParaRPr>
          </a:p>
        </p:txBody>
      </p:sp>
      <p:sp>
        <p:nvSpPr>
          <p:cNvPr id="16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Create the multi-lexer preference: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ea typeface="Courier New"/>
              </a:rPr>
              <a:t>ctx_ddl.create_preference('global_lexer',</a:t>
            </a:r>
            <a:endParaRPr b="0" lang="en-US" sz="18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ea typeface="Courier New"/>
              </a:rPr>
              <a:t>‘</a:t>
            </a:r>
            <a:r>
              <a:rPr b="0" lang="en-US" sz="1800" spc="-1" strike="noStrike">
                <a:solidFill>
                  <a:srgbClr val="ffffcc"/>
                </a:solidFill>
                <a:latin typeface="Courier New"/>
                <a:ea typeface="Courier New"/>
              </a:rPr>
              <a:t>multi_lexer'); </a:t>
            </a:r>
            <a:r>
              <a:rPr b="0" lang="en-US" sz="2000" spc="-1" strike="noStrike">
                <a:solidFill>
                  <a:srgbClr val="ffffcc"/>
                </a:solidFill>
                <a:latin typeface="Courier New"/>
                <a:ea typeface="Times New Roman"/>
              </a:rPr>
              <a:t>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Since the stored documents are mostly English, make the English lexer the default using CTX_DDL.ADD_SUB_LEXER: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ctx_ddl.add_sub_lexer('global_lexer','default',</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ea typeface="Courier New"/>
              </a:rPr>
              <a:t>'english_lexer');</a:t>
            </a:r>
            <a:r>
              <a:rPr b="0" lang="en-US" sz="2000" spc="-1" strike="noStrike">
                <a:solidFill>
                  <a:srgbClr val="ffffcc"/>
                </a:solidFill>
                <a:latin typeface="Courier New"/>
                <a:ea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MULTI_LEXER Example cont.</a:t>
            </a:r>
            <a:endParaRPr b="0" i="1" lang="en-US" sz="4400" spc="-1" strike="noStrike">
              <a:solidFill>
                <a:srgbClr val="ffcc66"/>
              </a:solidFill>
              <a:latin typeface="Times New Roman"/>
            </a:endParaRPr>
          </a:p>
        </p:txBody>
      </p:sp>
      <p:sp>
        <p:nvSpPr>
          <p:cNvPr id="16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Now add the German and Japanese lexers in their respective languages with CTX_DDL.ADD_SUB_LEXER procedure. </a:t>
            </a:r>
            <a:endParaRPr b="0" lang="en-US" sz="2000" spc="-1" strike="noStrike">
              <a:solidFill>
                <a:srgbClr val="ffffcc"/>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ctx_ddl.add_sub_lexer('global_lexer','german',</a:t>
            </a:r>
            <a:endParaRPr b="0" lang="en-US" sz="1800" spc="-1" strike="noStrike">
              <a:solidFill>
                <a:srgbClr val="ffffcc"/>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german_lexer','ger');</a:t>
            </a:r>
            <a:endParaRPr b="0" lang="en-US" sz="1800" spc="-1" strike="noStrike">
              <a:solidFill>
                <a:srgbClr val="ffffcc"/>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ctx_ddl.add_sub_lexer('global_lexer','japanese',</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japanese_lexer','jpn'); </a:t>
            </a:r>
            <a:r>
              <a:rPr b="0" lang="en-US" sz="1800" spc="-1" strike="noStrike">
                <a:solidFill>
                  <a:srgbClr val="ffffcc"/>
                </a:solidFill>
                <a:latin typeface="Courier New"/>
                <a:ea typeface="Times New Roman"/>
              </a:rPr>
              <a:t> </a:t>
            </a:r>
            <a:endParaRPr b="0" lang="en-US" sz="1800" spc="-1" strike="noStrike">
              <a:solidFill>
                <a:srgbClr val="ffffcc"/>
              </a:solidFill>
              <a:latin typeface="Times New Roman"/>
            </a:endParaRPr>
          </a:p>
          <a:p>
            <a:pPr marL="335880" indent="-3358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Now create the index </a:t>
            </a:r>
            <a:r>
              <a:rPr b="0" lang="en-US" sz="2000" spc="-1" strike="noStrike">
                <a:solidFill>
                  <a:srgbClr val="ffffcc"/>
                </a:solidFill>
                <a:latin typeface="Courier New"/>
                <a:ea typeface="Courier New"/>
              </a:rPr>
              <a:t>globalx</a:t>
            </a:r>
            <a:r>
              <a:rPr b="0" lang="en-US" sz="2000" spc="-1" strike="noStrike">
                <a:solidFill>
                  <a:srgbClr val="ffffcc"/>
                </a:solidFill>
                <a:latin typeface="Times New Roman"/>
                <a:ea typeface="Times New Roman"/>
              </a:rPr>
              <a:t>, specifying the multi-lexer preference and the language column in the parameter clause as follows: </a:t>
            </a:r>
            <a:endParaRPr b="0" lang="en-US" sz="2000" spc="-1" strike="noStrike">
              <a:solidFill>
                <a:srgbClr val="ffffcc"/>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create index globalx on globaldoc(text)</a:t>
            </a:r>
            <a:endParaRPr b="0" lang="en-US" sz="1800" spc="-1" strike="noStrike">
              <a:solidFill>
                <a:srgbClr val="ffffcc"/>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indextype is ctxsys.contextparameters </a:t>
            </a:r>
            <a:endParaRPr b="0" lang="en-US" sz="1800" spc="-1" strike="noStrike">
              <a:solidFill>
                <a:srgbClr val="ffffcc"/>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lexer global_lexer language column </a:t>
            </a:r>
            <a:endParaRPr b="0" lang="en-US" sz="1800" spc="-1" strike="noStrike">
              <a:solidFill>
                <a:srgbClr val="ffffcc"/>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	</a:t>
            </a:r>
            <a:r>
              <a:rPr b="0" lang="en-US" sz="1800" spc="-1" strike="noStrike">
                <a:solidFill>
                  <a:srgbClr val="ffffcc"/>
                </a:solidFill>
                <a:latin typeface="Courier New"/>
                <a:ea typeface="Courier New"/>
              </a:rPr>
              <a:t>lang');</a:t>
            </a:r>
            <a:r>
              <a:rPr b="0" lang="en-US" sz="1800" spc="-1" strike="noStrike">
                <a:solidFill>
                  <a:srgbClr val="ffffcc"/>
                </a:solidFill>
                <a:latin typeface="Courier New"/>
                <a:ea typeface="Times New Roman"/>
              </a:rPr>
              <a:t> </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Querying Multi-Language Tables</a:t>
            </a:r>
            <a:endParaRPr b="0" i="1" lang="en-US" sz="4400" spc="-1" strike="noStrike">
              <a:solidFill>
                <a:srgbClr val="ffcc66"/>
              </a:solidFill>
              <a:latin typeface="Times New Roman"/>
            </a:endParaRPr>
          </a:p>
        </p:txBody>
      </p:sp>
      <p:sp>
        <p:nvSpPr>
          <p:cNvPr id="17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At query time, the multi-lexer examines the language setting and uses the sub-lexer preference for that language to parse the query. If the language is not set, then the default lexer is used. </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Otherwise, the query is parsed and run as usual. The index contains tokens from multiple languages, so such a query can return documents in several languages. To limit your query to a given language, use a structured clause on the language column.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Dev Tools For Oracle Text</a:t>
            </a:r>
            <a:endParaRPr b="0" i="1" lang="en-US" sz="4400" spc="-1" strike="noStrike">
              <a:solidFill>
                <a:srgbClr val="ffcc66"/>
              </a:solidFill>
              <a:latin typeface="Times New Roman"/>
            </a:endParaRPr>
          </a:p>
        </p:txBody>
      </p:sp>
      <p:sp>
        <p:nvSpPr>
          <p:cNvPr id="17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terprise Manager – Adminstrative tool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Developer 9i – Some functionality built-in to Jdeveloper…additional add-ins scheduled for release on OTN including Catalog and Oracle Text wizard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dd-in for Dreamweaver UltraDev/MX</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ummary</a:t>
            </a:r>
            <a:endParaRPr b="0" i="1" lang="en-US" sz="4400" spc="-1" strike="noStrike">
              <a:solidFill>
                <a:srgbClr val="ffcc66"/>
              </a:solidFill>
              <a:latin typeface="Times New Roman"/>
            </a:endParaRPr>
          </a:p>
        </p:txBody>
      </p:sp>
      <p:sp>
        <p:nvSpPr>
          <p:cNvPr id="17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ery flexib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racle’s investment in this technology clearly points toward even greater integration in applications and tool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LS support among the best in the industry</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ample Code</a:t>
            </a:r>
            <a:endParaRPr b="0" i="1" lang="en-US" sz="4400" spc="-1" strike="noStrike">
              <a:solidFill>
                <a:srgbClr val="ffcc66"/>
              </a:solidFill>
              <a:latin typeface="Times New Roman"/>
            </a:endParaRPr>
          </a:p>
        </p:txBody>
      </p:sp>
      <p:sp>
        <p:nvSpPr>
          <p:cNvPr id="176" name=""/>
          <p:cNvSpPr/>
          <p:nvPr/>
        </p:nvSpPr>
        <p:spPr>
          <a:xfrm>
            <a:off x="533520" y="2133720"/>
            <a:ext cx="8245440" cy="451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test table</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REATE TABLE media_information (</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media_information_id NUMBER(10) PRIMARY KEY,</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ong_description VARCHAR2(4000));</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INSERT INTO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VALUES (30, 'Ink leaked out of my blue pen and stained my shir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INSERT INTO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VALUES (31, 'A Pencil is much easier to correct than a pe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INSERT INTO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VALUES (32, 'The preferred pencil is a NO 2');</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INSERT INTO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VALUES (33, 'I need a Mouse for my computer');</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INSERT INTO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VALUES (34, 'Our company uses many Mice');</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BEGI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ctx_ddl.create_preference ('my_lexer', 'basic_lexer');</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ctx_ddl.set_attribute ('my_lexer', 'index_text', 'true');</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ctx_ddl.set_attribute ('my_lexer', 'index_themes', 'false');</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END;</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BEGI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ctx_ddl.create_preference ('my_wordlist', 'basic_wordlis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ctx_ddl.set_attribute ('my_wordlist', 'substring_index', 'true');</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END;</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verview</a:t>
            </a:r>
            <a:endParaRPr b="0" i="1" lang="en-US" sz="44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Oracle Text is the foundation for text processing in IFS, Oracle Ultra Search, Oracle eBusiness Suite, Oracle 9iAS Portal, and on oracle.com</a:t>
            </a:r>
            <a:endParaRPr b="0" lang="en-US" sz="2600" spc="-1" strike="noStrike">
              <a:solidFill>
                <a:srgbClr val="ffffcc"/>
              </a:solidFill>
              <a:latin typeface="Times New Roman"/>
            </a:endParaRPr>
          </a:p>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Oracle Text index management can be done using Oracle Enterprise Manager</a:t>
            </a:r>
            <a:endParaRPr b="0" lang="en-US" sz="2600" spc="-1" strike="noStrike">
              <a:solidFill>
                <a:srgbClr val="ffffcc"/>
              </a:solidFill>
              <a:latin typeface="Times New Roman"/>
            </a:endParaRPr>
          </a:p>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The SQL API allows developers and administrators to develop and maintain indexes with standard SQL syntax</a:t>
            </a: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ample Code cont.</a:t>
            </a:r>
            <a:endParaRPr b="0" i="1" lang="en-US" sz="4400" spc="-1" strike="noStrike">
              <a:solidFill>
                <a:srgbClr val="ffcc66"/>
              </a:solidFill>
              <a:latin typeface="Times New Roman"/>
            </a:endParaRPr>
          </a:p>
        </p:txBody>
      </p:sp>
      <p:sp>
        <p:nvSpPr>
          <p:cNvPr id="178" name=""/>
          <p:cNvSpPr/>
          <p:nvPr/>
        </p:nvSpPr>
        <p:spPr>
          <a:xfrm>
            <a:off x="533520" y="2133720"/>
            <a:ext cx="8245440" cy="390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Create an index with an empty stoplis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REATE INDEX media_information_indx ON media_information(long_descrip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INDEXTYPE IS ctxsys.CONTEX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PARAMETERS ( 'lexer my_lexer wordlist my_wordlist stoplist ctxsys.empty_stoplist' );</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SELECT token_tex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FROM DR$MEDIA_INFORMATION_INDX$I;</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There are 32 records returned</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Note that words such as 'A' and 'OF' are presen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DROP INDEX MEDIA_INFORMATION_INDX;</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Create an index with a stoplis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REATE INDEX media_information_indx ON media_information(long_descrip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INDEXTYPE IS ctxsys.CONTEX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PARAMETERS ( 'lexer my_lexer wordlist my_wordlist stoplist ctxsys.default_stoplist' );</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SELECT token_tex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FROM DR$MEDIA_INFORMATION_INDX$I;</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There are only 22 records returned</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Note that words such as 'A' and 'OF' are not presen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ample Code cont.</a:t>
            </a:r>
            <a:endParaRPr b="0" i="1" lang="en-US" sz="4400" spc="-1" strike="noStrike">
              <a:solidFill>
                <a:srgbClr val="ffcc66"/>
              </a:solidFill>
              <a:latin typeface="Times New Roman"/>
            </a:endParaRPr>
          </a:p>
        </p:txBody>
      </p:sp>
      <p:sp>
        <p:nvSpPr>
          <p:cNvPr id="180" name=""/>
          <p:cNvSpPr/>
          <p:nvPr/>
        </p:nvSpPr>
        <p:spPr>
          <a:xfrm>
            <a:off x="533520" y="2133720"/>
            <a:ext cx="8245440" cy="313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SELECT media_information_id, long_description, score(1)</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FROM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WHERE CONTAINS(long_description, 'mice', 1) &gt; 0</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ORDER BY score(1);</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SELECT media_information_id, long_description, score(1)</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FROM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WHERE CONTAINS(long_description, '$mice', 1) &gt; 0</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ORDER BY score(1);</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SELECT media_information_id, long_description, score(1)</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FROM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WHERE CONTAINS(long_description, 'pen', 1) &gt; 0</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ORDER BY score(1);</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SELECT media_information_id, long_description, score(1)</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FROM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WHERE CONTAINS(long_description, 'pen%', 1) &gt; 0</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ORDER BY score(1);</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ample Code cont.</a:t>
            </a:r>
            <a:endParaRPr b="0" i="1" lang="en-US" sz="4400" spc="-1" strike="noStrike">
              <a:solidFill>
                <a:srgbClr val="ffcc66"/>
              </a:solidFill>
              <a:latin typeface="Times New Roman"/>
            </a:endParaRPr>
          </a:p>
        </p:txBody>
      </p:sp>
      <p:sp>
        <p:nvSpPr>
          <p:cNvPr id="182" name=""/>
          <p:cNvSpPr/>
          <p:nvPr/>
        </p:nvSpPr>
        <p:spPr>
          <a:xfrm>
            <a:off x="533520" y="2133720"/>
            <a:ext cx="8245440" cy="344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Verify that ctx_user_pending is empty</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Insert a new record and verify that it is NOT indexed</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Verify that ctx_user_pending has records</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select pnd_rowid,</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to_char ( pnd_timestamp, 'dd-mon-yyyy hh24:mi:ss' ) 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from ctx_user_pending</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where pnd_index_name = 'MEDIA_INFORMATION_INDX';</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INSERT INTO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VALUES (35, 'ctx pending', NULL);</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MMI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select pnd_rowid,</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to_char ( pnd_timestamp, 'dd-mon-yyyy hh24:mi:ss' ) 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from ctx_user_pending</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where pnd_index_name = 'MEDIA_INFORMATION_INDX';</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SELECT media_information_id, long_description, score(1)</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FROM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WHERE CONTAINS(long_description, 'PENDING', 1) &gt; 0</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ORDER BY score(1);</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ample Code cont.</a:t>
            </a:r>
            <a:endParaRPr b="0" i="1" lang="en-US" sz="4400" spc="-1" strike="noStrike">
              <a:solidFill>
                <a:srgbClr val="ffcc66"/>
              </a:solidFill>
              <a:latin typeface="Times New Roman"/>
            </a:endParaRPr>
          </a:p>
        </p:txBody>
      </p:sp>
      <p:sp>
        <p:nvSpPr>
          <p:cNvPr id="184" name=""/>
          <p:cNvSpPr/>
          <p:nvPr/>
        </p:nvSpPr>
        <p:spPr>
          <a:xfrm>
            <a:off x="533520" y="2133720"/>
            <a:ext cx="8245440" cy="22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Rebuild the index and verify that the value can be selected</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lter index media_information_indx rebuild online parameters ( 'sync' );</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select pnd_rowid,</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to_char ( pnd_timestamp, 'dd-mon-yyyy hh24:mi:ss' ) t</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from ctx_user_pending</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000" spc="-1" strike="noStrike">
                <a:solidFill>
                  <a:srgbClr val="ffffcc"/>
                </a:solidFill>
                <a:latin typeface="Times New Roman"/>
              </a:rPr>
              <a:t>where pnd_index_name = 'MEDIA_INFORMATION_INDX';</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SELECT media_information_id, long_description, score(1)</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FROM media_information</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WHERE CONTAINS(long_description, 'PENDING', 1) &gt; 0</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ORDER BY score(1);</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erminology</a:t>
            </a:r>
            <a:endParaRPr b="0" i="1" lang="en-US" sz="4400" spc="-1" strike="noStrike">
              <a:solidFill>
                <a:srgbClr val="ffcc66"/>
              </a:solidFill>
              <a:latin typeface="Times New Roman"/>
            </a:endParaRPr>
          </a:p>
        </p:txBody>
      </p:sp>
      <p:graphicFrame>
        <p:nvGraphicFramePr>
          <p:cNvPr id="104" name=""/>
          <p:cNvGraphicFramePr/>
          <p:nvPr/>
        </p:nvGraphicFramePr>
        <p:xfrm>
          <a:off x="685800" y="2057400"/>
          <a:ext cx="7772400" cy="3760920"/>
        </p:xfrm>
        <a:graphic>
          <a:graphicData uri="http://schemas.openxmlformats.org/drawingml/2006/table">
            <a:tbl>
              <a:tblPr/>
              <a:tblGrid>
                <a:gridCol w="1523880"/>
                <a:gridCol w="6248520"/>
              </a:tblGrid>
              <a:tr h="672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atastore</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ow are your documents stored?</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lt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ow can the documents be converted to plain text for indexing – INSO filter handles much of the filtering for the ~150 supported document types.</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Lexer (object)</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e lexer breaks the text into tokens according to your language – covered in more detail later…</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72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ordlist</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ow should stem and fuzzy queries be expanded?</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top List</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hat words or themes are not to be indexed (examples could be ‘of’, ‘the’, ‘if’, etc)?</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mmon Uses</a:t>
            </a:r>
            <a:endParaRPr b="0" i="1"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With the tight integration of Oracle Text into the Enterprise and Standard editions of the database, the list of uses continues to grow.  They do typically fall into one of the following categories though:</a:t>
            </a:r>
            <a:endParaRPr b="0" lang="en-US" sz="2600" spc="-1" strike="noStrike">
              <a:solidFill>
                <a:srgbClr val="ffffcc"/>
              </a:solidFill>
              <a:latin typeface="Times New Roman"/>
            </a:endParaRPr>
          </a:p>
          <a:p>
            <a:pPr lvl="1" marL="743040" indent="-28584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Web Site Searching</a:t>
            </a:r>
            <a:endParaRPr b="0" lang="en-US" sz="2200" spc="-1" strike="noStrike">
              <a:solidFill>
                <a:srgbClr val="ffffcc"/>
              </a:solidFill>
              <a:latin typeface="Times New Roman"/>
            </a:endParaRPr>
          </a:p>
          <a:p>
            <a:pPr lvl="1" marL="743040" indent="-28584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eBusiness Catalogs</a:t>
            </a:r>
            <a:endParaRPr b="0" lang="en-US" sz="2200" spc="-1" strike="noStrike">
              <a:solidFill>
                <a:srgbClr val="ffffcc"/>
              </a:solidFill>
              <a:latin typeface="Times New Roman"/>
            </a:endParaRPr>
          </a:p>
          <a:p>
            <a:pPr lvl="1" marL="743040" indent="-28584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Digital Libraries</a:t>
            </a: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Web Site Searching</a:t>
            </a:r>
            <a:endParaRPr b="0" i="1" lang="en-US" sz="44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bility to store, categorize and manage multiple document types in the database rather than a file server, and provide quick access to the relevant data</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sing Oracle Ultra Search (a web based application built on Oracle Text) allows existing repositories, not yet in the database, to be indexed and searched.</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ltra Search can crawl through e-mail servers, multiple databases, web servers, etc. to index these legacy repositori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eBusiness Catalogs</a:t>
            </a:r>
            <a:endParaRPr b="0" i="1" lang="en-US"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ew to Oracle Text is the catalog index type.  It was built for use with small text fragments in typical eBusiness environment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Catalog indexes can deliver response times which are orders of magnitude better than standard text index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cc66"/>
                </a:solidFill>
                <a:latin typeface="Times New Roman"/>
              </a:rPr>
              <a:t>Digital Libraries</a:t>
            </a:r>
            <a:endParaRPr b="0" i="1" lang="en-US"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rsonalization – ability to retrieve text assets given a particular user profile</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xt mining – themes, gists and other features extracted from documents by Oracle Text can be used to mine for latent information</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assification – filters an incoming stream of documents based on their conten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1:19:50Z</dcterms:created>
  <dc:creator/>
  <dc:description/>
  <dc:language>en-US</dc:language>
  <cp:lastModifiedBy>Ron Hardman</cp:lastModifiedBy>
  <dcterms:modified xsi:type="dcterms:W3CDTF">2002-08-28T22:12:14Z</dcterms:modified>
  <cp:revision>59</cp:revision>
  <dc:subject/>
  <dc:title>Oracle Text</dc:title>
</cp:coreProperties>
</file>