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336-0221-4EAD-B9F2-6A0F6978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165-751D-4D98-A6D4-D7145808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E47-DC0A-4254-A0BF-90115D8B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458-2A8C-41C2-851F-78FE6B8F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BAD-F182-4F5B-9BCF-5FCEBF9C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277-D35A-4E29-91FB-3EA96CEE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366-3AB4-41DB-8F25-E65532F6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E53-C882-4EBC-9D20-8DE8D23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C54-085D-46E2-BB87-04323C0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A63-075F-4960-B4B5-03B3488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0A6-9562-4854-90DF-54A1680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3B7-E5D7-491C-A13C-6B8355E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FC64-853D-46C8-A62A-FE51FA13D5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759D-6AB5-430F-8122-118EA9851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12654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cessful Dimensional Modeling of Very Large Data Ware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809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sell T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81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LT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7180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mens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ension Hierarch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371600"/>
            <a:ext cx="44197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&gt; select distinct levelx from dw_perio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VEL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&gt; select distinct levelx from dw_produ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VEL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_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d Snowfla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6765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void natural desire to normalize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cates end-user query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dditional level of “JOIN”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optimizers do not handle ver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some space at the cost of long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040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owflak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Aggre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523880"/>
            <a:ext cx="6172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ild end-user driven aggregate 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ime (e.g. week, month, quarter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geographic regions (e.g. time z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nd-user reporting interests (e.g. b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imension hierarchy (e.g. product categ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s should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12408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8120" y="6248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Tim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19051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act table, foreign key colum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ve individual bitmap indexes o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4966_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bd04966_" descr=""/>
          <p:cNvPicPr/>
          <p:nvPr/>
        </p:nvPicPr>
        <p:blipFill>
          <a:blip r:embed="rId3"/>
          <a:stretch/>
        </p:blipFill>
        <p:spPr>
          <a:xfrm>
            <a:off x="7391520" y="190512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52480" y="38098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imension table, non-key colum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ve individual bitmap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d04966_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bd04966_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2189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762120" y="-77940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6248520"/>
            <a:ext cx="25146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-Tree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1447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438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67080" y="23619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Quest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400800" cy="4867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29000" y="6248520"/>
            <a:ext cx="28954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Bitmap Index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1828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1447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152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1828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Fact Tab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121932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act tables shou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foreign key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table check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primary/uniqu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se unique indexes which offer parallel cre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column check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her than simple NOT NULL check constra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reate or enable “row” level trig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nable logging on tables or their ind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6248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PK/UK/FK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971800" y="4343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672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3526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Oracl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29528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ust me – no way to build large DW in Oracle 7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y brief overview in next few slide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on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 tim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ing ad-hoc Star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versus Parallel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lized View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143000"/>
            <a:ext cx="7391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 beyond the scope of dimensional modeling,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ange or List Partitioning using your time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unique index = local, prefixed b-tre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ime index = local, 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non-time index = local, non-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non-time dimension provides a good locality of reference for typical user queries, then sub-partition on that dimension (i.e use 8i’s new composite part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14400" y="152280"/>
          <a:ext cx="7213680" cy="649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280"/>
                    <a:ext cx="721368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590920" y="6248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xing Option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286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8i Table Option Tim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28800" y="1397160"/>
          <a:ext cx="5486400" cy="3936960"/>
        </p:xfrm>
        <a:graphic>
          <a:graphicData uri="http://schemas.openxmlformats.org/drawingml/2006/table">
            <a:tbl>
              <a:tblPr/>
              <a:tblGrid>
                <a:gridCol w="4005360"/>
                <a:gridCol w="1481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 Imple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“Heap” 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Column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 Column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site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Organized 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tion Index Organ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 flipH="1">
            <a:off x="7696080" y="28195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638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specific to my data and us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ning Star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167652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 beyond the scope of dimensional modeling,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racle 8.X’s Range Partitioning based upon your time dimension (do not try to use hash or composite part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unique index uses local, prefixed b-tre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ime index uses local, 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non-time index use local, non-prefixed bitmap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233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267080" y="1981080"/>
            <a:ext cx="38102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: beer and coffee sales for November of 98 in D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ical User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243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077320" cy="556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410080" y="1600200"/>
            <a:ext cx="2819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9520" y="1828800"/>
            <a:ext cx="2590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t Explai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 You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type of application are you buil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ine Transaction Processing (OL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Data Store (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ine Analytical Processing (O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art / Data Warehouse (DM/D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505320"/>
                <a:gridCol w="1295280"/>
                <a:gridCol w="12956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ain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al, No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al, with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, No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-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, with 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4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 flipH="1">
            <a:off x="7772040" y="34290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8i Quer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5638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specific to my data and user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758520" y="-767880"/>
            <a:ext cx="10661040" cy="8393760"/>
            <a:chOff x="-758520" y="-767880"/>
            <a:chExt cx="10661040" cy="8393760"/>
          </a:xfrm>
        </p:grpSpPr>
        <p:sp>
          <p:nvSpPr>
            <p:cNvPr id="260" name=""/>
            <p:cNvSpPr/>
            <p:nvPr/>
          </p:nvSpPr>
          <p:spPr>
            <a:xfrm>
              <a:off x="0" y="0"/>
              <a:ext cx="2209680" cy="2057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34400">
              <a:off x="0" y="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4320" y="4800600"/>
              <a:ext cx="2209680" cy="2057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934400">
              <a:off x="5105160" y="2846520"/>
              <a:ext cx="4038480" cy="401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quest_color" descr=""/>
            <p:cNvPicPr/>
            <p:nvPr/>
          </p:nvPicPr>
          <p:blipFill>
            <a:blip r:embed="rId1"/>
            <a:stretch/>
          </p:blipFill>
          <p:spPr>
            <a:xfrm>
              <a:off x="304920" y="6370560"/>
              <a:ext cx="19098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6248520"/>
              <a:ext cx="858852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le 8i Materializ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67652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y beyond the scope of dimensional modeling, bu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orm of snapshots (i.e. re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users direct all queries against detai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r rewrites queries to use best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r suggests new aggregates based on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need for numerous aggregatio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62120" y="685800"/>
          <a:ext cx="7848360" cy="5149800"/>
        </p:xfrm>
        <a:graphic>
          <a:graphicData uri="http://schemas.openxmlformats.org/drawingml/2006/table">
            <a:tbl>
              <a:tblPr/>
              <a:tblGrid>
                <a:gridCol w="1569600"/>
                <a:gridCol w="1569960"/>
                <a:gridCol w="1568520"/>
                <a:gridCol w="1569960"/>
                <a:gridCol w="1570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/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al Tac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c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ctical 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 User 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 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 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Server 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in Gi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–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–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- 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Mode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itional 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ditional 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61" name="bs00294_" descr=""/>
          <p:cNvPicPr/>
          <p:nvPr/>
        </p:nvPicPr>
        <p:blipFill>
          <a:blip r:embed="rId2"/>
          <a:stretch/>
        </p:blipFill>
        <p:spPr>
          <a:xfrm>
            <a:off x="1676520" y="4572000"/>
            <a:ext cx="14475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e02661_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141768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brace New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UGGAGE" descr=""/>
          <p:cNvPicPr/>
          <p:nvPr/>
        </p:nvPicPr>
        <p:blipFill>
          <a:blip r:embed="rId4"/>
          <a:stretch/>
        </p:blipFill>
        <p:spPr>
          <a:xfrm>
            <a:off x="1676520" y="2895480"/>
            <a:ext cx="1228680" cy="12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52680" y="1752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Old Dog New Trick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276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 out any OLTP bag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952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get OLTP “Golden Ru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Schem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8479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ension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mall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-normaliz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bles containing business descriptive columns that end-users query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391464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y large tables with primary keys formed from the concatenation of related dimension table foreign key columns, and possessing numerically additive, non-key columns used for calculations during end-user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704960"/>
            <a:ext cx="59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 schema” approach to dimensional data modeling was pioneered by Ralph Kim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6172200"/>
            <a:ext cx="1676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52280"/>
            <a:ext cx="838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609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48520" y="510552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200400" y="51055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152280"/>
            <a:ext cx="1600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09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6095880"/>
            <a:ext cx="1676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019920" y="51055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352680" y="51055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762120" y="-762120"/>
            <a:ext cx="10666440" cy="839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28800" y="247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orm OLTP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914400"/>
            <a:ext cx="5486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454040"/>
            <a:ext cx="632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ld OLTP model into itself to form a S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Normalize parent/chil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Normalize lookup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urrogate or meaningless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d populate a time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hierarchies of data in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7:48:06Z</dcterms:created>
  <dc:creator>Bert Scalzo</dc:creator>
  <dc:description/>
  <dc:language>en-US</dc:language>
  <cp:lastModifiedBy>Quest Software</cp:lastModifiedBy>
  <dcterms:modified xsi:type="dcterms:W3CDTF">2002-04-29T17:56:06Z</dcterms:modified>
  <cp:revision>318</cp:revision>
  <dc:subject/>
  <dc:title>PowerPoint Presentation</dc:title>
</cp:coreProperties>
</file>