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335-85D6-4C36-9580-490F9122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C64A-AB55-47E6-ACAB-6DD0D90B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6A3-B8C8-4126-B0FE-F1DB4E68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587-DD4A-45B4-B262-4A32BB1B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164B-4209-4734-8E9A-44A8AD62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B93C-3FC9-4869-BAA6-EB6E8A83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04EE-2DC1-4BE1-BFBE-7AB71E81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652B-3D92-42A5-8B6A-8F63978A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A40A-2B0A-4944-A2DA-39029CFA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7A1-7887-4439-81CF-E90BAED0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8AF-28AF-4658-9F70-D9CFD195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FAFB-12D0-47B1-9E2B-AFD8F88F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F352-3F22-437C-9230-BD75F051566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391F-7CD0-4024-9184-B72219B13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28800" y="126540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ccessful Dimensional Modeling of Very Large Data Wareho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38098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ssell Tu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81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LTP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97180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mension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mension Hierarch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1371600"/>
            <a:ext cx="441972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&gt; select distinct levelx from dw_perio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VEL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A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E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&gt; select distinct levelx from dw_produc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VEL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L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_CATEG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828800" y="247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oid Snowflak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67652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void natural desire to normalize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icates end-user query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dditional level of “JOIN”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optimizers do not handle very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s some space at the cost of longer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0040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nowflak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28800" y="247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on Aggre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1523880"/>
            <a:ext cx="6172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uild end-user driven aggregate t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ime (e.g. week, month, quarter,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geographic regions (e.g. time z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end-user reporting interests (e.g. be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imension hierarchy (e.g. product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s should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 sm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12408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me Aggre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48120" y="6248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-Time Aggre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x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190512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fact table, foreign key column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ve individual bitmap indexes on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d04966_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25" name="bd04966_" descr=""/>
          <p:cNvPicPr/>
          <p:nvPr/>
        </p:nvPicPr>
        <p:blipFill>
          <a:blip r:embed="rId3"/>
          <a:stretch/>
        </p:blipFill>
        <p:spPr>
          <a:xfrm>
            <a:off x="7391520" y="1905120"/>
            <a:ext cx="1218960" cy="1066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52480" y="380988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dimension table, non-key column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ve individual bitmap ind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bd04966_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28" name="bd04966_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2189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762120" y="-779400"/>
            <a:ext cx="10666440" cy="8399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81280" y="6248520"/>
            <a:ext cx="25146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B-Tree Ind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1295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1447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2438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2514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666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2743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2895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2971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267080" y="23619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58520" y="-767880"/>
            <a:ext cx="10661040" cy="8393760"/>
            <a:chOff x="-758520" y="-767880"/>
            <a:chExt cx="10661040" cy="839376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209680" cy="2057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934400">
              <a:off x="0" y="0"/>
              <a:ext cx="4038480" cy="401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934320" y="4800600"/>
              <a:ext cx="2209680" cy="20574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934400">
              <a:off x="5105160" y="2846520"/>
              <a:ext cx="4038480" cy="401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quest_color" descr=""/>
            <p:cNvPicPr/>
            <p:nvPr/>
          </p:nvPicPr>
          <p:blipFill>
            <a:blip r:embed="rId1"/>
            <a:stretch/>
          </p:blipFill>
          <p:spPr>
            <a:xfrm>
              <a:off x="304920" y="6370560"/>
              <a:ext cx="190980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6248520"/>
              <a:ext cx="858852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828800" y="247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out Quest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7920" y="1143000"/>
            <a:ext cx="6400800" cy="4867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429000" y="6248520"/>
            <a:ext cx="28954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 Bitmap Index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3733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4724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1600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1752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1828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1447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29400" y="1523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9400" y="1752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1828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940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2940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94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911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2666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 Fact Tabl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1219320"/>
            <a:ext cx="6172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act tables shoul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reate or enable foreign key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reate or enable table check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reate or enable primary/unique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use unique indexes which offer parallel cre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reate or enable column check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ther than simple NOT NULL check constrai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reate or enable “row” level trig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enable logging on tables or their inde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590920" y="6248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PK/UK/FK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971800" y="4343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86728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35268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 Oracl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1295280"/>
            <a:ext cx="6172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ust me – no way to build large DW in Oracle 7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y brief overview in next few slides o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oning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ing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ative tim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ning ad-hoc Star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 versus Parallel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lized Views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28800" y="247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acle Parti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143000"/>
            <a:ext cx="7391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y beyond the scope of dimensional modeling, 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ange or List Partitioning using your time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 unique index = local, prefixed b-tree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 time index = local, prefixed bitmap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 non-time index = local, non-prefixed bitmap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y non-time dimension provides a good locality of reference for typical user queries, then sub-partition on that dimension (i.e use 8i’s new composite partitio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14400" y="152280"/>
          <a:ext cx="7213680" cy="649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2280"/>
                    <a:ext cx="721368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2590920" y="6248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xing Option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2286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acle 8i Table Option Tim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28800" y="1397160"/>
          <a:ext cx="5486400" cy="3936960"/>
        </p:xfrm>
        <a:graphic>
          <a:graphicData uri="http://schemas.openxmlformats.org/drawingml/2006/table">
            <a:tbl>
              <a:tblPr/>
              <a:tblGrid>
                <a:gridCol w="4005360"/>
                <a:gridCol w="1481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 Implemen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ular “Heap” 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 Column Par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 Column Par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9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osite Par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3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Organized 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5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tion Index Organiz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9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 flipH="1">
            <a:off x="7696080" y="28195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56386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E: specific to my data and user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828800" y="247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ning Star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167652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y beyond the scope of dimensional modeling, 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racle 8.X’s Range Partitioning based upon your time dimension (do not try to use hash or composite partitio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 unique index uses local, prefixed b-tree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 time index uses local, prefixed bitmap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 non-time index use local, non-prefixed bitmap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-758520" y="-767880"/>
            <a:ext cx="10661040" cy="8393760"/>
            <a:chOff x="-758520" y="-767880"/>
            <a:chExt cx="10661040" cy="8393760"/>
          </a:xfrm>
        </p:grpSpPr>
        <p:sp>
          <p:nvSpPr>
            <p:cNvPr id="233" name=""/>
            <p:cNvSpPr/>
            <p:nvPr/>
          </p:nvSpPr>
          <p:spPr>
            <a:xfrm>
              <a:off x="0" y="0"/>
              <a:ext cx="2209680" cy="2057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934400">
              <a:off x="0" y="0"/>
              <a:ext cx="4038480" cy="401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34320" y="4800600"/>
              <a:ext cx="2209680" cy="20574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34400">
              <a:off x="5105160" y="2846520"/>
              <a:ext cx="4038480" cy="401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quest_color" descr=""/>
            <p:cNvPicPr/>
            <p:nvPr/>
          </p:nvPicPr>
          <p:blipFill>
            <a:blip r:embed="rId1"/>
            <a:stretch/>
          </p:blipFill>
          <p:spPr>
            <a:xfrm>
              <a:off x="304920" y="6370560"/>
              <a:ext cx="190980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0" y="6248520"/>
              <a:ext cx="858852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001000" cy="55623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267080" y="1981080"/>
            <a:ext cx="38102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: beer and coffee sales for November of 98 in Da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ical User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-758520" y="-767880"/>
            <a:ext cx="10661040" cy="8393760"/>
            <a:chOff x="-758520" y="-767880"/>
            <a:chExt cx="10661040" cy="8393760"/>
          </a:xfrm>
        </p:grpSpPr>
        <p:sp>
          <p:nvSpPr>
            <p:cNvPr id="243" name=""/>
            <p:cNvSpPr/>
            <p:nvPr/>
          </p:nvSpPr>
          <p:spPr>
            <a:xfrm>
              <a:off x="0" y="0"/>
              <a:ext cx="2209680" cy="2057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934400">
              <a:off x="0" y="0"/>
              <a:ext cx="4038480" cy="401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34320" y="4800600"/>
              <a:ext cx="2209680" cy="20574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934400">
              <a:off x="5105160" y="2846520"/>
              <a:ext cx="4038480" cy="401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quest_color" descr=""/>
            <p:cNvPicPr/>
            <p:nvPr/>
          </p:nvPicPr>
          <p:blipFill>
            <a:blip r:embed="rId1"/>
            <a:stretch/>
          </p:blipFill>
          <p:spPr>
            <a:xfrm>
              <a:off x="304920" y="6370560"/>
              <a:ext cx="190980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0" y="6248520"/>
              <a:ext cx="858852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8077320" cy="5562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410080" y="1600200"/>
            <a:ext cx="28195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19520" y="1828800"/>
            <a:ext cx="2590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st Explain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828800" y="247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 Your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1752480"/>
            <a:ext cx="601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type of application are you buil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Line Transaction Processing (OL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al Data Store (O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Line Analytical Processing (OL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art / Data Warehouse (DM/D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505320"/>
                <a:gridCol w="1295280"/>
                <a:gridCol w="12956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lain 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ial, No Par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3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ial, with Par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6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llel, No Par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-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-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llel, with Par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4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 flipH="1">
            <a:off x="7772040" y="342900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288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acle 8i Query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56386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E: specific to my data and user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-758520" y="-767880"/>
            <a:ext cx="10661040" cy="8393760"/>
            <a:chOff x="-758520" y="-767880"/>
            <a:chExt cx="10661040" cy="8393760"/>
          </a:xfrm>
        </p:grpSpPr>
        <p:sp>
          <p:nvSpPr>
            <p:cNvPr id="260" name=""/>
            <p:cNvSpPr/>
            <p:nvPr/>
          </p:nvSpPr>
          <p:spPr>
            <a:xfrm>
              <a:off x="0" y="0"/>
              <a:ext cx="2209680" cy="2057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934400">
              <a:off x="0" y="0"/>
              <a:ext cx="4038480" cy="401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34320" y="4800600"/>
              <a:ext cx="2209680" cy="20574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934400">
              <a:off x="5105160" y="2846520"/>
              <a:ext cx="4038480" cy="401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quest_color" descr=""/>
            <p:cNvPicPr/>
            <p:nvPr/>
          </p:nvPicPr>
          <p:blipFill>
            <a:blip r:embed="rId1"/>
            <a:stretch/>
          </p:blipFill>
          <p:spPr>
            <a:xfrm>
              <a:off x="304920" y="6370560"/>
              <a:ext cx="190980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6248520"/>
              <a:ext cx="858852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1828800" y="247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acle 8i Materialized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676520"/>
            <a:ext cx="7315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y beyond the scope of dimensional modeling, bu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form of snapshots (i.e. repl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users direct all queries against detail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r rewrites queries to use best aggr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r suggests new aggregates based on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need for numerous aggregatio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762120" y="685800"/>
          <a:ext cx="7848360" cy="5149800"/>
        </p:xfrm>
        <a:graphic>
          <a:graphicData uri="http://schemas.openxmlformats.org/drawingml/2006/table">
            <a:tbl>
              <a:tblPr/>
              <a:tblGrid>
                <a:gridCol w="1569600"/>
                <a:gridCol w="1569960"/>
                <a:gridCol w="1568520"/>
                <a:gridCol w="1569960"/>
                <a:gridCol w="1570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M/D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iness Foc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al Tact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ct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ctical Strateg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 User Too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ent Server W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ent Server W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ent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ent Server W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 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b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 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 in Gi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–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– 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– 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- 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N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N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N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Mode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ditional 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ditional 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pic>
        <p:nvPicPr>
          <p:cNvPr id="61" name="bs00294_" descr=""/>
          <p:cNvPicPr/>
          <p:nvPr/>
        </p:nvPicPr>
        <p:blipFill>
          <a:blip r:embed="rId2"/>
          <a:stretch/>
        </p:blipFill>
        <p:spPr>
          <a:xfrm>
            <a:off x="1676520" y="4572000"/>
            <a:ext cx="1447560" cy="1219320"/>
          </a:xfrm>
          <a:prstGeom prst="rect">
            <a:avLst/>
          </a:prstGeom>
          <a:ln w="0">
            <a:noFill/>
          </a:ln>
        </p:spPr>
      </p:pic>
      <p:pic>
        <p:nvPicPr>
          <p:cNvPr id="62" name="pe02661_" descr=""/>
          <p:cNvPicPr/>
          <p:nvPr/>
        </p:nvPicPr>
        <p:blipFill>
          <a:blip r:embed="rId3"/>
          <a:stretch/>
        </p:blipFill>
        <p:spPr>
          <a:xfrm>
            <a:off x="1676520" y="1371600"/>
            <a:ext cx="1417680" cy="1219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28800" y="247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brace New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UGGAGE" descr=""/>
          <p:cNvPicPr/>
          <p:nvPr/>
        </p:nvPicPr>
        <p:blipFill>
          <a:blip r:embed="rId4"/>
          <a:stretch/>
        </p:blipFill>
        <p:spPr>
          <a:xfrm>
            <a:off x="1676520" y="2895480"/>
            <a:ext cx="1228680" cy="1295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352680" y="17524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 Old Dog New Trick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3276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w out any OLTP bagg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952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get OLTP “Golden Ru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28800" y="247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r Schema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284796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mension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er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-normaliz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ables containing business descriptive columns that end-users query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391464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ct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ery large tables with primary keys formed from the concatenation of related dimension table foreign key columns, and possessing numerically additive, non-key columns used for calculations during end-user qu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1704960"/>
            <a:ext cx="59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 schema” approach to dimensional data modeling was pioneered by Ralph Kim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6019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0" y="6172200"/>
            <a:ext cx="16765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152280"/>
            <a:ext cx="8380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609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248520" y="5105520"/>
            <a:ext cx="11430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200400" y="5105520"/>
            <a:ext cx="1371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6019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152280"/>
            <a:ext cx="1600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609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6095880"/>
            <a:ext cx="16765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019920" y="51055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352680" y="5105520"/>
            <a:ext cx="9907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28800" y="247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form OLTP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1454040"/>
            <a:ext cx="6324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old OLTP model into itself to form a St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-Normalize parent/child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-Normalize lookup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surrogate or meaningless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nd populate a time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hierarchies of data in dim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7:48:06Z</dcterms:created>
  <dc:creator>Bert Scalzo</dc:creator>
  <dc:description/>
  <dc:language>en-US</dc:language>
  <cp:lastModifiedBy>Quest Software</cp:lastModifiedBy>
  <dcterms:modified xsi:type="dcterms:W3CDTF">2002-04-29T17:56:06Z</dcterms:modified>
  <cp:revision>318</cp:revision>
  <dc:subject/>
  <dc:title>PowerPoint Presentation</dc:title>
</cp:coreProperties>
</file>